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30.wmf" ContentType="image/x-wmf"/>
  <Override PartName="/ppt/media/image28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1.wmf" ContentType="image/x-wmf"/>
  <Override PartName="/ppt/media/image7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20.wmf" ContentType="image/x-wmf"/>
  <Override PartName="/ppt/media/image3.png" ContentType="image/png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587C-A229-4628-9507-4475FE952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8878-DC95-41A8-AF60-82958C98A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C64B-B5E9-42B0-9949-9FC65D3E5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5568-DF0B-47EF-B187-C000C98BB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60EF-C308-4D08-BC74-0FCD0236E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05BA-3C30-4722-BD3D-C230899DC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5DFE-3A07-414A-A833-4370527DB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33E0-4814-4E81-9CE4-140DFF5F2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58C0-5AF0-4EE6-A0A7-6DDBDAD28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8530-4DF3-46C5-BB6A-2B4B418E2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F745-5DA3-4DD1-BD87-24FC293D4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6E6E-BBAA-4CC3-BD87-74A3AEA9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7BD3-9311-4BA1-ADD1-482F9BE1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C30B-3DD4-414F-874E-E4EB632DE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3645-E74B-4D4C-A0C4-FCE148E39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2157-5845-480B-88A7-36CF5BA9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84FD-8472-4350-823A-88AB4CEB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3D8E-FB67-4B16-BD56-9DE1C2291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3D60-E49E-4F24-98F5-E500EB96F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0BCB-B9F0-4269-927B-04A2AAF6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0344-F23B-4987-B44C-C486ABDA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9C53-1C07-42DF-8A7E-4A5693BF3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E952-B644-403A-82DE-4F90DFEB4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EC39-151D-4512-A5B4-D3746D174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9297-E226-4A75-A5BF-ADC4A69C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745-34D4-4BD0-B091-EE4C806C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D8D-FA5C-4AFA-85A3-8BFB4B08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156-EB67-45A3-8C96-907D426D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880-2807-4F8C-8351-ADD2E8F6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726-49DC-4967-9609-59F731C2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EEE-FC49-4D76-B89E-872B922B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D7A-4062-4DD6-9C12-E6BE5820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E96-0F7B-48AA-AE91-9E4049EE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638-7778-44C7-9837-9D09A53C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048-7FF8-46B1-967E-1C1EC0A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D54-14EE-4CF9-B243-40335E77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6CD-1838-4A10-AFAD-5912E274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4FEB-DBDF-4E5E-AA4B-BD28B2B7A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52280" y="1160640"/>
            <a:ext cx="7531200" cy="4987800"/>
            <a:chOff x="152280" y="1160640"/>
            <a:chExt cx="7531200" cy="4987800"/>
          </a:xfrm>
        </p:grpSpPr>
        <p:pic>
          <p:nvPicPr>
            <p:cNvPr id="49" name="Picture 34" descr="Ellis pic.jpg"/>
            <p:cNvPicPr/>
            <p:nvPr/>
          </p:nvPicPr>
          <p:blipFill>
            <a:blip r:embed="rId1"/>
            <a:stretch/>
          </p:blipFill>
          <p:spPr>
            <a:xfrm>
              <a:off x="291960" y="1160640"/>
              <a:ext cx="2146320" cy="29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3"/>
            <p:cNvSpPr/>
            <p:nvPr/>
          </p:nvSpPr>
          <p:spPr>
            <a:xfrm>
              <a:off x="291960" y="4203720"/>
              <a:ext cx="647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Edwin Ellis, Ph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23"/>
            <p:cNvSpPr/>
            <p:nvPr/>
          </p:nvSpPr>
          <p:spPr>
            <a:xfrm>
              <a:off x="1206360" y="4665600"/>
              <a:ext cx="647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essor Emeritus, University of Alabam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3"/>
            <p:cNvSpPr/>
            <p:nvPr/>
          </p:nvSpPr>
          <p:spPr>
            <a:xfrm>
              <a:off x="1206360" y="5094360"/>
              <a:ext cx="647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search Affiliate, University of Kansas                                 Center for Research on Learnin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3"/>
            <p:cNvSpPr/>
            <p:nvPr/>
          </p:nvSpPr>
          <p:spPr>
            <a:xfrm>
              <a:off x="1206360" y="5735520"/>
              <a:ext cx="647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esident, Makes Sense Strategies, LL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7" descr="UA seal"/>
            <p:cNvPicPr/>
            <p:nvPr/>
          </p:nvPicPr>
          <p:blipFill>
            <a:blip r:embed="rId2"/>
            <a:stretch/>
          </p:blipFill>
          <p:spPr>
            <a:xfrm>
              <a:off x="466560" y="4578480"/>
              <a:ext cx="486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9" descr="kucrl-logo"/>
            <p:cNvPicPr/>
            <p:nvPr/>
          </p:nvPicPr>
          <p:blipFill>
            <a:blip r:embed="rId3"/>
            <a:stretch/>
          </p:blipFill>
          <p:spPr>
            <a:xfrm>
              <a:off x="152280" y="5211720"/>
              <a:ext cx="111312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" descr="logo"/>
            <p:cNvPicPr/>
            <p:nvPr/>
          </p:nvPicPr>
          <p:blipFill>
            <a:blip r:embed="rId4"/>
            <a:stretch/>
          </p:blipFill>
          <p:spPr>
            <a:xfrm>
              <a:off x="338040" y="5688000"/>
              <a:ext cx="7430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 Box 12"/>
          <p:cNvSpPr/>
          <p:nvPr/>
        </p:nvSpPr>
        <p:spPr>
          <a:xfrm>
            <a:off x="8750160" y="1406520"/>
            <a:ext cx="39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304920" y="201600"/>
            <a:ext cx="7848360" cy="905400"/>
            <a:chOff x="304920" y="201600"/>
            <a:chExt cx="7848360" cy="905400"/>
          </a:xfrm>
        </p:grpSpPr>
        <p:sp>
          <p:nvSpPr>
            <p:cNvPr id="59" name="Text Box 23"/>
            <p:cNvSpPr/>
            <p:nvPr/>
          </p:nvSpPr>
          <p:spPr>
            <a:xfrm>
              <a:off x="304920" y="58644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Sentence Writing Strategy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3"/>
            <p:cNvSpPr/>
            <p:nvPr/>
          </p:nvSpPr>
          <p:spPr>
            <a:xfrm>
              <a:off x="304920" y="201600"/>
              <a:ext cx="78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Fundamentals in th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23"/>
          <p:cNvSpPr/>
          <p:nvPr/>
        </p:nvSpPr>
        <p:spPr>
          <a:xfrm>
            <a:off x="2459160" y="13971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Part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317200" y="398448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Jean Schumaker &amp; Jan Sheld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6"/>
          <p:cNvGrpSpPr/>
          <p:nvPr/>
        </p:nvGrpSpPr>
        <p:grpSpPr>
          <a:xfrm>
            <a:off x="2452680" y="2897280"/>
            <a:ext cx="7848720" cy="1210320"/>
            <a:chOff x="2452680" y="2897280"/>
            <a:chExt cx="7848720" cy="1210320"/>
          </a:xfrm>
        </p:grpSpPr>
        <p:sp>
          <p:nvSpPr>
            <p:cNvPr id="64" name="Text Box 23"/>
            <p:cNvSpPr/>
            <p:nvPr/>
          </p:nvSpPr>
          <p:spPr>
            <a:xfrm>
              <a:off x="2452680" y="3282120"/>
              <a:ext cx="306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c3ff"/>
                  </a:solidFill>
                  <a:latin typeface="Arial"/>
                  <a:ea typeface="ＭＳ Ｐゴシック"/>
                </a:rPr>
                <a:t>Sentence Writing Instructio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3"/>
            <p:cNvSpPr/>
            <p:nvPr/>
          </p:nvSpPr>
          <p:spPr>
            <a:xfrm>
              <a:off x="2452680" y="289728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c3ff"/>
                  </a:solidFill>
                  <a:latin typeface="Arial"/>
                  <a:ea typeface="ＭＳ Ｐゴシック"/>
                </a:rPr>
                <a:t>Part 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2" descr="fund_sent_writing_student.jpg"/>
          <p:cNvPicPr/>
          <p:nvPr/>
        </p:nvPicPr>
        <p:blipFill>
          <a:blip r:embed="rId5"/>
          <a:stretch/>
        </p:blipFill>
        <p:spPr>
          <a:xfrm>
            <a:off x="5418000" y="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3"/>
          <p:cNvSpPr/>
          <p:nvPr/>
        </p:nvSpPr>
        <p:spPr>
          <a:xfrm>
            <a:off x="2459160" y="178128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ationale &amp; Sentence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"/>
          <p:cNvSpPr/>
          <p:nvPr/>
        </p:nvSpPr>
        <p:spPr>
          <a:xfrm>
            <a:off x="6931080" y="2612880"/>
            <a:ext cx="1631880" cy="1287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damentals in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ence Writ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87112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requirements of a complet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tegy for writing &amp; checking sentences ("PENS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b-strategy for checking sentence completeness ("MARK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types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Stud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Sentence Writ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553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be able to write words legibly in print or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be able to spell enough words such that a sentence can be deciphered by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2"/>
          <p:cNvSpPr/>
          <p:nvPr/>
        </p:nvSpPr>
        <p:spPr>
          <a:xfrm>
            <a:off x="0" y="3092400"/>
            <a:ext cx="81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 cleaned up the party mes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mple sentence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dependent Claus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28560" y="569880"/>
            <a:ext cx="7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427040" y="579600"/>
            <a:ext cx="59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V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855880" y="638280"/>
            <a:ext cx="59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Subject – Verb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5"/>
          <p:cNvGrpSpPr/>
          <p:nvPr/>
        </p:nvGrpSpPr>
        <p:grpSpPr>
          <a:xfrm>
            <a:off x="109440" y="3395520"/>
            <a:ext cx="630360" cy="520560"/>
            <a:chOff x="109440" y="3395520"/>
            <a:chExt cx="630360" cy="520560"/>
          </a:xfrm>
        </p:grpSpPr>
        <p:sp>
          <p:nvSpPr>
            <p:cNvPr id="127" name="Text Box 17"/>
            <p:cNvSpPr/>
            <p:nvPr/>
          </p:nvSpPr>
          <p:spPr>
            <a:xfrm>
              <a:off x="177840" y="3395520"/>
              <a:ext cx="4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S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109440" y="3438360"/>
              <a:ext cx="63036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6"/>
          <p:cNvGrpSpPr/>
          <p:nvPr/>
        </p:nvGrpSpPr>
        <p:grpSpPr>
          <a:xfrm>
            <a:off x="812880" y="3395520"/>
            <a:ext cx="900000" cy="520560"/>
            <a:chOff x="812880" y="3395520"/>
            <a:chExt cx="900000" cy="520560"/>
          </a:xfrm>
        </p:grpSpPr>
        <p:sp>
          <p:nvSpPr>
            <p:cNvPr id="130" name="Text Box 18"/>
            <p:cNvSpPr/>
            <p:nvPr/>
          </p:nvSpPr>
          <p:spPr>
            <a:xfrm>
              <a:off x="955800" y="3395520"/>
              <a:ext cx="7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V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44"/>
            <p:cNvGrpSpPr/>
            <p:nvPr/>
          </p:nvGrpSpPr>
          <p:grpSpPr>
            <a:xfrm>
              <a:off x="812880" y="3438360"/>
              <a:ext cx="900000" cy="79560"/>
              <a:chOff x="812880" y="3438360"/>
              <a:chExt cx="900000" cy="79560"/>
            </a:xfrm>
          </p:grpSpPr>
          <p:sp>
            <p:nvSpPr>
              <p:cNvPr id="132" name="Line 14"/>
              <p:cNvSpPr/>
              <p:nvPr/>
            </p:nvSpPr>
            <p:spPr>
              <a:xfrm>
                <a:off x="812880" y="343836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5"/>
              <p:cNvSpPr/>
              <p:nvPr/>
            </p:nvSpPr>
            <p:spPr>
              <a:xfrm>
                <a:off x="812880" y="351792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0"/>
          <p:cNvSpPr/>
          <p:nvPr/>
        </p:nvSpPr>
        <p:spPr>
          <a:xfrm>
            <a:off x="1389240" y="1158840"/>
            <a:ext cx="59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SV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0" y="3951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 and Jean cleaned up the party mes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1351080" y="1724040"/>
            <a:ext cx="59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VV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1378080" y="2270160"/>
            <a:ext cx="59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SSVV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0" y="484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 cleaned up the party mess and carried out the trash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7"/>
          <p:cNvGrpSpPr/>
          <p:nvPr/>
        </p:nvGrpSpPr>
        <p:grpSpPr>
          <a:xfrm>
            <a:off x="103320" y="4246560"/>
            <a:ext cx="630000" cy="520560"/>
            <a:chOff x="103320" y="4246560"/>
            <a:chExt cx="630000" cy="520560"/>
          </a:xfrm>
        </p:grpSpPr>
        <p:sp>
          <p:nvSpPr>
            <p:cNvPr id="140" name="Text Box 48"/>
            <p:cNvSpPr/>
            <p:nvPr/>
          </p:nvSpPr>
          <p:spPr>
            <a:xfrm>
              <a:off x="171360" y="4246560"/>
              <a:ext cx="49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S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9"/>
            <p:cNvSpPr/>
            <p:nvPr/>
          </p:nvSpPr>
          <p:spPr>
            <a:xfrm>
              <a:off x="103320" y="4289400"/>
              <a:ext cx="63000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50"/>
          <p:cNvGrpSpPr/>
          <p:nvPr/>
        </p:nvGrpSpPr>
        <p:grpSpPr>
          <a:xfrm>
            <a:off x="1176480" y="4246560"/>
            <a:ext cx="630000" cy="520560"/>
            <a:chOff x="1176480" y="4246560"/>
            <a:chExt cx="630000" cy="520560"/>
          </a:xfrm>
        </p:grpSpPr>
        <p:sp>
          <p:nvSpPr>
            <p:cNvPr id="143" name="Text Box 51"/>
            <p:cNvSpPr/>
            <p:nvPr/>
          </p:nvSpPr>
          <p:spPr>
            <a:xfrm>
              <a:off x="1244520" y="4246560"/>
              <a:ext cx="49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S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2"/>
            <p:cNvSpPr/>
            <p:nvPr/>
          </p:nvSpPr>
          <p:spPr>
            <a:xfrm>
              <a:off x="1176480" y="4289400"/>
              <a:ext cx="63000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53"/>
          <p:cNvGrpSpPr/>
          <p:nvPr/>
        </p:nvGrpSpPr>
        <p:grpSpPr>
          <a:xfrm>
            <a:off x="1901880" y="4246560"/>
            <a:ext cx="900000" cy="520560"/>
            <a:chOff x="1901880" y="4246560"/>
            <a:chExt cx="900000" cy="520560"/>
          </a:xfrm>
        </p:grpSpPr>
        <p:sp>
          <p:nvSpPr>
            <p:cNvPr id="146" name="Text Box 54"/>
            <p:cNvSpPr/>
            <p:nvPr/>
          </p:nvSpPr>
          <p:spPr>
            <a:xfrm>
              <a:off x="2044800" y="4246560"/>
              <a:ext cx="7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V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55"/>
            <p:cNvGrpSpPr/>
            <p:nvPr/>
          </p:nvGrpSpPr>
          <p:grpSpPr>
            <a:xfrm>
              <a:off x="1901880" y="4289400"/>
              <a:ext cx="900000" cy="79560"/>
              <a:chOff x="1901880" y="4289400"/>
              <a:chExt cx="900000" cy="79560"/>
            </a:xfrm>
          </p:grpSpPr>
          <p:sp>
            <p:nvSpPr>
              <p:cNvPr id="148" name="Line 56"/>
              <p:cNvSpPr/>
              <p:nvPr/>
            </p:nvSpPr>
            <p:spPr>
              <a:xfrm>
                <a:off x="1901880" y="428940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7"/>
              <p:cNvSpPr/>
              <p:nvPr/>
            </p:nvSpPr>
            <p:spPr>
              <a:xfrm>
                <a:off x="1901880" y="436896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Group 58"/>
          <p:cNvGrpSpPr/>
          <p:nvPr/>
        </p:nvGrpSpPr>
        <p:grpSpPr>
          <a:xfrm>
            <a:off x="33480" y="5156280"/>
            <a:ext cx="630000" cy="520560"/>
            <a:chOff x="33480" y="5156280"/>
            <a:chExt cx="630000" cy="520560"/>
          </a:xfrm>
        </p:grpSpPr>
        <p:sp>
          <p:nvSpPr>
            <p:cNvPr id="151" name="Text Box 59"/>
            <p:cNvSpPr/>
            <p:nvPr/>
          </p:nvSpPr>
          <p:spPr>
            <a:xfrm>
              <a:off x="101520" y="5156280"/>
              <a:ext cx="49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S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0"/>
            <p:cNvSpPr/>
            <p:nvPr/>
          </p:nvSpPr>
          <p:spPr>
            <a:xfrm>
              <a:off x="33480" y="5199120"/>
              <a:ext cx="63000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61"/>
          <p:cNvGrpSpPr/>
          <p:nvPr/>
        </p:nvGrpSpPr>
        <p:grpSpPr>
          <a:xfrm>
            <a:off x="714240" y="5156280"/>
            <a:ext cx="900000" cy="520560"/>
            <a:chOff x="714240" y="5156280"/>
            <a:chExt cx="900000" cy="520560"/>
          </a:xfrm>
        </p:grpSpPr>
        <p:sp>
          <p:nvSpPr>
            <p:cNvPr id="154" name="Text Box 62"/>
            <p:cNvSpPr/>
            <p:nvPr/>
          </p:nvSpPr>
          <p:spPr>
            <a:xfrm>
              <a:off x="857160" y="5156280"/>
              <a:ext cx="7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V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63"/>
            <p:cNvGrpSpPr/>
            <p:nvPr/>
          </p:nvGrpSpPr>
          <p:grpSpPr>
            <a:xfrm>
              <a:off x="714240" y="5199120"/>
              <a:ext cx="900000" cy="79560"/>
              <a:chOff x="714240" y="5199120"/>
              <a:chExt cx="900000" cy="79560"/>
            </a:xfrm>
          </p:grpSpPr>
          <p:sp>
            <p:nvSpPr>
              <p:cNvPr id="156" name="Line 64"/>
              <p:cNvSpPr/>
              <p:nvPr/>
            </p:nvSpPr>
            <p:spPr>
              <a:xfrm>
                <a:off x="714240" y="519912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65"/>
              <p:cNvSpPr/>
              <p:nvPr/>
            </p:nvSpPr>
            <p:spPr>
              <a:xfrm>
                <a:off x="714240" y="527868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Group 66"/>
          <p:cNvGrpSpPr/>
          <p:nvPr/>
        </p:nvGrpSpPr>
        <p:grpSpPr>
          <a:xfrm>
            <a:off x="4383000" y="5156280"/>
            <a:ext cx="900000" cy="520560"/>
            <a:chOff x="4383000" y="5156280"/>
            <a:chExt cx="900000" cy="520560"/>
          </a:xfrm>
        </p:grpSpPr>
        <p:sp>
          <p:nvSpPr>
            <p:cNvPr id="159" name="Text Box 67"/>
            <p:cNvSpPr/>
            <p:nvPr/>
          </p:nvSpPr>
          <p:spPr>
            <a:xfrm>
              <a:off x="4525920" y="5156280"/>
              <a:ext cx="7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V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68"/>
            <p:cNvGrpSpPr/>
            <p:nvPr/>
          </p:nvGrpSpPr>
          <p:grpSpPr>
            <a:xfrm>
              <a:off x="4383000" y="5199120"/>
              <a:ext cx="900000" cy="79560"/>
              <a:chOff x="4383000" y="5199120"/>
              <a:chExt cx="900000" cy="79560"/>
            </a:xfrm>
          </p:grpSpPr>
          <p:sp>
            <p:nvSpPr>
              <p:cNvPr id="161" name="Line 69"/>
              <p:cNvSpPr/>
              <p:nvPr/>
            </p:nvSpPr>
            <p:spPr>
              <a:xfrm>
                <a:off x="4383000" y="519912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70"/>
              <p:cNvSpPr/>
              <p:nvPr/>
            </p:nvSpPr>
            <p:spPr>
              <a:xfrm>
                <a:off x="4383000" y="527868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Text Box 71"/>
          <p:cNvSpPr/>
          <p:nvPr/>
        </p:nvSpPr>
        <p:spPr>
          <a:xfrm>
            <a:off x="0" y="58881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 and Jean cleaned up the party mess and carried out the trash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2"/>
          <p:cNvGrpSpPr/>
          <p:nvPr/>
        </p:nvGrpSpPr>
        <p:grpSpPr>
          <a:xfrm>
            <a:off x="74520" y="6191280"/>
            <a:ext cx="630360" cy="520560"/>
            <a:chOff x="74520" y="6191280"/>
            <a:chExt cx="630360" cy="520560"/>
          </a:xfrm>
        </p:grpSpPr>
        <p:sp>
          <p:nvSpPr>
            <p:cNvPr id="165" name="Text Box 73"/>
            <p:cNvSpPr/>
            <p:nvPr/>
          </p:nvSpPr>
          <p:spPr>
            <a:xfrm>
              <a:off x="142920" y="6191280"/>
              <a:ext cx="4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S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4"/>
            <p:cNvSpPr/>
            <p:nvPr/>
          </p:nvSpPr>
          <p:spPr>
            <a:xfrm>
              <a:off x="74520" y="6234120"/>
              <a:ext cx="63036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75"/>
          <p:cNvGrpSpPr/>
          <p:nvPr/>
        </p:nvGrpSpPr>
        <p:grpSpPr>
          <a:xfrm>
            <a:off x="1179360" y="6191280"/>
            <a:ext cx="630360" cy="520560"/>
            <a:chOff x="1179360" y="6191280"/>
            <a:chExt cx="630360" cy="520560"/>
          </a:xfrm>
        </p:grpSpPr>
        <p:sp>
          <p:nvSpPr>
            <p:cNvPr id="168" name="Text Box 76"/>
            <p:cNvSpPr/>
            <p:nvPr/>
          </p:nvSpPr>
          <p:spPr>
            <a:xfrm>
              <a:off x="1247760" y="6191280"/>
              <a:ext cx="4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S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7"/>
            <p:cNvSpPr/>
            <p:nvPr/>
          </p:nvSpPr>
          <p:spPr>
            <a:xfrm>
              <a:off x="1179360" y="6234120"/>
              <a:ext cx="63036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8"/>
          <p:cNvGrpSpPr/>
          <p:nvPr/>
        </p:nvGrpSpPr>
        <p:grpSpPr>
          <a:xfrm>
            <a:off x="2104920" y="6191280"/>
            <a:ext cx="900000" cy="520560"/>
            <a:chOff x="2104920" y="6191280"/>
            <a:chExt cx="900000" cy="520560"/>
          </a:xfrm>
        </p:grpSpPr>
        <p:sp>
          <p:nvSpPr>
            <p:cNvPr id="171" name="Text Box 79"/>
            <p:cNvSpPr/>
            <p:nvPr/>
          </p:nvSpPr>
          <p:spPr>
            <a:xfrm>
              <a:off x="2247840" y="6191280"/>
              <a:ext cx="7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V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80"/>
            <p:cNvGrpSpPr/>
            <p:nvPr/>
          </p:nvGrpSpPr>
          <p:grpSpPr>
            <a:xfrm>
              <a:off x="2104920" y="6234120"/>
              <a:ext cx="900000" cy="79560"/>
              <a:chOff x="2104920" y="6234120"/>
              <a:chExt cx="900000" cy="79560"/>
            </a:xfrm>
          </p:grpSpPr>
          <p:sp>
            <p:nvSpPr>
              <p:cNvPr id="173" name="Line 81"/>
              <p:cNvSpPr/>
              <p:nvPr/>
            </p:nvSpPr>
            <p:spPr>
              <a:xfrm>
                <a:off x="2104920" y="623412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82"/>
              <p:cNvSpPr/>
              <p:nvPr/>
            </p:nvSpPr>
            <p:spPr>
              <a:xfrm>
                <a:off x="2104920" y="631368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83"/>
          <p:cNvGrpSpPr/>
          <p:nvPr/>
        </p:nvGrpSpPr>
        <p:grpSpPr>
          <a:xfrm>
            <a:off x="5607000" y="6191280"/>
            <a:ext cx="900000" cy="520560"/>
            <a:chOff x="5607000" y="6191280"/>
            <a:chExt cx="900000" cy="520560"/>
          </a:xfrm>
        </p:grpSpPr>
        <p:sp>
          <p:nvSpPr>
            <p:cNvPr id="176" name="Text Box 84"/>
            <p:cNvSpPr/>
            <p:nvPr/>
          </p:nvSpPr>
          <p:spPr>
            <a:xfrm>
              <a:off x="5749920" y="6191280"/>
              <a:ext cx="7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V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85"/>
            <p:cNvGrpSpPr/>
            <p:nvPr/>
          </p:nvGrpSpPr>
          <p:grpSpPr>
            <a:xfrm>
              <a:off x="5607000" y="6234120"/>
              <a:ext cx="900000" cy="79560"/>
              <a:chOff x="5607000" y="6234120"/>
              <a:chExt cx="900000" cy="79560"/>
            </a:xfrm>
          </p:grpSpPr>
          <p:sp>
            <p:nvSpPr>
              <p:cNvPr id="178" name="Line 86"/>
              <p:cNvSpPr/>
              <p:nvPr/>
            </p:nvSpPr>
            <p:spPr>
              <a:xfrm>
                <a:off x="5607000" y="623412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87"/>
              <p:cNvSpPr/>
              <p:nvPr/>
            </p:nvSpPr>
            <p:spPr>
              <a:xfrm>
                <a:off x="5607000" y="6313680"/>
                <a:ext cx="90000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91"/>
          <p:cNvSpPr/>
          <p:nvPr/>
        </p:nvSpPr>
        <p:spPr>
          <a:xfrm>
            <a:off x="3772080" y="1752480"/>
            <a:ext cx="1091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0" y="1965240"/>
            <a:ext cx="40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 cleaned up the party me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359160" y="1073160"/>
            <a:ext cx="357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1"/>
          <p:cNvSpPr/>
          <p:nvPr/>
        </p:nvSpPr>
        <p:spPr>
          <a:xfrm>
            <a:off x="231840" y="51768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joined by comma &amp; coordinating conj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2"/>
          <p:cNvSpPr/>
          <p:nvPr/>
        </p:nvSpPr>
        <p:spPr>
          <a:xfrm>
            <a:off x="3511440" y="106524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3"/>
          <p:cNvSpPr/>
          <p:nvPr/>
        </p:nvSpPr>
        <p:spPr>
          <a:xfrm>
            <a:off x="3960720" y="1073160"/>
            <a:ext cx="357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4"/>
          <p:cNvSpPr/>
          <p:nvPr/>
        </p:nvSpPr>
        <p:spPr>
          <a:xfrm>
            <a:off x="1527120" y="2324160"/>
            <a:ext cx="357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5"/>
          <p:cNvSpPr/>
          <p:nvPr/>
        </p:nvSpPr>
        <p:spPr>
          <a:xfrm>
            <a:off x="4452840" y="1965240"/>
            <a:ext cx="40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an carried out the trash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6"/>
          <p:cNvSpPr/>
          <p:nvPr/>
        </p:nvSpPr>
        <p:spPr>
          <a:xfrm>
            <a:off x="6124680" y="2324160"/>
            <a:ext cx="357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0" y="543708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ordinating conjunctions =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8"/>
          <p:cNvSpPr/>
          <p:nvPr/>
        </p:nvSpPr>
        <p:spPr>
          <a:xfrm>
            <a:off x="0" y="595152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0"/>
          <p:cNvSpPr/>
          <p:nvPr/>
        </p:nvSpPr>
        <p:spPr>
          <a:xfrm>
            <a:off x="993600" y="595152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1"/>
          <p:cNvSpPr/>
          <p:nvPr/>
        </p:nvSpPr>
        <p:spPr>
          <a:xfrm>
            <a:off x="1986120" y="5951520"/>
            <a:ext cx="12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R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2"/>
          <p:cNvSpPr/>
          <p:nvPr/>
        </p:nvSpPr>
        <p:spPr>
          <a:xfrm>
            <a:off x="2978280" y="5951520"/>
            <a:ext cx="12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3"/>
          <p:cNvSpPr/>
          <p:nvPr/>
        </p:nvSpPr>
        <p:spPr>
          <a:xfrm>
            <a:off x="3970440" y="5951520"/>
            <a:ext cx="12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4"/>
          <p:cNvSpPr/>
          <p:nvPr/>
        </p:nvSpPr>
        <p:spPr>
          <a:xfrm>
            <a:off x="4962600" y="5951520"/>
            <a:ext cx="12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E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5"/>
          <p:cNvSpPr/>
          <p:nvPr/>
        </p:nvSpPr>
        <p:spPr>
          <a:xfrm>
            <a:off x="5954760" y="5951520"/>
            <a:ext cx="12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3"/>
          <p:cNvGrpSpPr/>
          <p:nvPr/>
        </p:nvGrpSpPr>
        <p:grpSpPr>
          <a:xfrm>
            <a:off x="0" y="5948280"/>
            <a:ext cx="7157520" cy="459720"/>
            <a:chOff x="0" y="5948280"/>
            <a:chExt cx="7157520" cy="459720"/>
          </a:xfrm>
        </p:grpSpPr>
        <p:sp>
          <p:nvSpPr>
            <p:cNvPr id="199" name="Text Box 76"/>
            <p:cNvSpPr/>
            <p:nvPr/>
          </p:nvSpPr>
          <p:spPr>
            <a:xfrm>
              <a:off x="0" y="5948280"/>
              <a:ext cx="120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OR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7"/>
            <p:cNvSpPr/>
            <p:nvPr/>
          </p:nvSpPr>
          <p:spPr>
            <a:xfrm>
              <a:off x="993600" y="5948280"/>
              <a:ext cx="120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ND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78"/>
            <p:cNvSpPr/>
            <p:nvPr/>
          </p:nvSpPr>
          <p:spPr>
            <a:xfrm>
              <a:off x="1985760" y="5948280"/>
              <a:ext cx="120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OR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9"/>
            <p:cNvSpPr/>
            <p:nvPr/>
          </p:nvSpPr>
          <p:spPr>
            <a:xfrm>
              <a:off x="2977920" y="5948280"/>
              <a:ext cx="120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UT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0"/>
            <p:cNvSpPr/>
            <p:nvPr/>
          </p:nvSpPr>
          <p:spPr>
            <a:xfrm>
              <a:off x="3970080" y="5948280"/>
              <a:ext cx="120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1"/>
            <p:cNvSpPr/>
            <p:nvPr/>
          </p:nvSpPr>
          <p:spPr>
            <a:xfrm>
              <a:off x="4962240" y="5948280"/>
              <a:ext cx="120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ET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82"/>
            <p:cNvSpPr/>
            <p:nvPr/>
          </p:nvSpPr>
          <p:spPr>
            <a:xfrm>
              <a:off x="5954400" y="5948280"/>
              <a:ext cx="120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84"/>
          <p:cNvSpPr/>
          <p:nvPr/>
        </p:nvSpPr>
        <p:spPr>
          <a:xfrm>
            <a:off x="152280" y="643716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N BOY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2"/>
          <p:cNvSpPr/>
          <p:nvPr/>
        </p:nvSpPr>
        <p:spPr>
          <a:xfrm>
            <a:off x="3905280" y="1965240"/>
            <a:ext cx="12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joined by comma &amp; coordinating conj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0" y="226548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 cleaned up the party mes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an carried out the trash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1362240" y="386064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joined by a semico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73080" y="4775040"/>
            <a:ext cx="87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 cleaned up the party mes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an carried out the trash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7"/>
          <p:cNvGrpSpPr/>
          <p:nvPr/>
        </p:nvGrpSpPr>
        <p:grpSpPr>
          <a:xfrm>
            <a:off x="3287880" y="4051440"/>
            <a:ext cx="1380960" cy="713880"/>
            <a:chOff x="3287880" y="4051440"/>
            <a:chExt cx="1380960" cy="713880"/>
          </a:xfrm>
        </p:grpSpPr>
        <p:sp>
          <p:nvSpPr>
            <p:cNvPr id="214" name="Text Box 44"/>
            <p:cNvSpPr/>
            <p:nvPr/>
          </p:nvSpPr>
          <p:spPr>
            <a:xfrm>
              <a:off x="3287880" y="4051440"/>
              <a:ext cx="13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  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45"/>
            <p:cNvSpPr/>
            <p:nvPr/>
          </p:nvSpPr>
          <p:spPr>
            <a:xfrm>
              <a:off x="3440160" y="4122720"/>
              <a:ext cx="10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46"/>
          <p:cNvSpPr/>
          <p:nvPr/>
        </p:nvSpPr>
        <p:spPr>
          <a:xfrm>
            <a:off x="3848040" y="4684680"/>
            <a:ext cx="3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8"/>
          <p:cNvSpPr/>
          <p:nvPr/>
        </p:nvSpPr>
        <p:spPr>
          <a:xfrm>
            <a:off x="3359160" y="1073160"/>
            <a:ext cx="357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9"/>
          <p:cNvSpPr/>
          <p:nvPr/>
        </p:nvSpPr>
        <p:spPr>
          <a:xfrm>
            <a:off x="3511440" y="106524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0"/>
          <p:cNvSpPr/>
          <p:nvPr/>
        </p:nvSpPr>
        <p:spPr>
          <a:xfrm>
            <a:off x="3960720" y="1073160"/>
            <a:ext cx="357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1"/>
          <p:cNvSpPr/>
          <p:nvPr/>
        </p:nvSpPr>
        <p:spPr>
          <a:xfrm>
            <a:off x="3772080" y="1752480"/>
            <a:ext cx="1091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57"/>
          <p:cNvGrpSpPr/>
          <p:nvPr/>
        </p:nvGrpSpPr>
        <p:grpSpPr>
          <a:xfrm>
            <a:off x="0" y="1965240"/>
            <a:ext cx="8540640" cy="398880"/>
            <a:chOff x="0" y="1965240"/>
            <a:chExt cx="8540640" cy="398880"/>
          </a:xfrm>
        </p:grpSpPr>
        <p:sp>
          <p:nvSpPr>
            <p:cNvPr id="222" name="Text Box 52"/>
            <p:cNvSpPr/>
            <p:nvPr/>
          </p:nvSpPr>
          <p:spPr>
            <a:xfrm>
              <a:off x="0" y="1965240"/>
              <a:ext cx="40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cleaned up the party mess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4"/>
            <p:cNvSpPr/>
            <p:nvPr/>
          </p:nvSpPr>
          <p:spPr>
            <a:xfrm>
              <a:off x="4452840" y="1965240"/>
              <a:ext cx="40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ean carried out the trash.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6"/>
            <p:cNvSpPr/>
            <p:nvPr/>
          </p:nvSpPr>
          <p:spPr>
            <a:xfrm>
              <a:off x="3905280" y="196524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and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58"/>
          <p:cNvSpPr/>
          <p:nvPr/>
        </p:nvSpPr>
        <p:spPr>
          <a:xfrm>
            <a:off x="0" y="27464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 cleaned up the party mes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b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an carried out the trash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9"/>
          <p:cNvSpPr/>
          <p:nvPr/>
        </p:nvSpPr>
        <p:spPr>
          <a:xfrm>
            <a:off x="0" y="322740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 cleaned up the party mes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y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an carried out the trash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85"/>
          <p:cNvGrpSpPr/>
          <p:nvPr/>
        </p:nvGrpSpPr>
        <p:grpSpPr>
          <a:xfrm>
            <a:off x="0" y="5437080"/>
            <a:ext cx="8912160" cy="1459800"/>
            <a:chOff x="0" y="5437080"/>
            <a:chExt cx="8912160" cy="1459800"/>
          </a:xfrm>
        </p:grpSpPr>
        <p:sp>
          <p:nvSpPr>
            <p:cNvPr id="228" name="Text Box 60"/>
            <p:cNvSpPr/>
            <p:nvPr/>
          </p:nvSpPr>
          <p:spPr>
            <a:xfrm>
              <a:off x="0" y="5437080"/>
              <a:ext cx="89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oordinating conjunctions =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76"/>
            <p:cNvSpPr/>
            <p:nvPr/>
          </p:nvSpPr>
          <p:spPr>
            <a:xfrm>
              <a:off x="152280" y="6437160"/>
              <a:ext cx="293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AN BOYS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77"/>
            <p:cNvGrpSpPr/>
            <p:nvPr/>
          </p:nvGrpSpPr>
          <p:grpSpPr>
            <a:xfrm>
              <a:off x="0" y="5948280"/>
              <a:ext cx="7157520" cy="459720"/>
              <a:chOff x="0" y="5948280"/>
              <a:chExt cx="7157520" cy="459720"/>
            </a:xfrm>
          </p:grpSpPr>
          <p:sp>
            <p:nvSpPr>
              <p:cNvPr id="231" name="Text Box 78"/>
              <p:cNvSpPr/>
              <p:nvPr/>
            </p:nvSpPr>
            <p:spPr>
              <a:xfrm>
                <a:off x="0" y="5948280"/>
                <a:ext cx="12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OR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79"/>
              <p:cNvSpPr/>
              <p:nvPr/>
            </p:nvSpPr>
            <p:spPr>
              <a:xfrm>
                <a:off x="993600" y="5948280"/>
                <a:ext cx="120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ND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80"/>
              <p:cNvSpPr/>
              <p:nvPr/>
            </p:nvSpPr>
            <p:spPr>
              <a:xfrm>
                <a:off x="1985760" y="5948280"/>
                <a:ext cx="120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OR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81"/>
              <p:cNvSpPr/>
              <p:nvPr/>
            </p:nvSpPr>
            <p:spPr>
              <a:xfrm>
                <a:off x="2977920" y="5948280"/>
                <a:ext cx="12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UT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3970080" y="5948280"/>
                <a:ext cx="12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83"/>
              <p:cNvSpPr/>
              <p:nvPr/>
            </p:nvSpPr>
            <p:spPr>
              <a:xfrm>
                <a:off x="4962240" y="5948280"/>
                <a:ext cx="12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Y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ET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84"/>
              <p:cNvSpPr/>
              <p:nvPr/>
            </p:nvSpPr>
            <p:spPr>
              <a:xfrm>
                <a:off x="5954400" y="5948280"/>
                <a:ext cx="12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joined by comma &amp; coordinating conj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31840" y="150804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joined by a semico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6"/>
          <p:cNvGrpSpPr/>
          <p:nvPr/>
        </p:nvGrpSpPr>
        <p:grpSpPr>
          <a:xfrm>
            <a:off x="3359160" y="1863720"/>
            <a:ext cx="1380960" cy="713880"/>
            <a:chOff x="3359160" y="1863720"/>
            <a:chExt cx="1380960" cy="713880"/>
          </a:xfrm>
        </p:grpSpPr>
        <p:sp>
          <p:nvSpPr>
            <p:cNvPr id="242" name="Text Box 7"/>
            <p:cNvSpPr/>
            <p:nvPr/>
          </p:nvSpPr>
          <p:spPr>
            <a:xfrm>
              <a:off x="3359160" y="1863720"/>
              <a:ext cx="13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  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8"/>
            <p:cNvSpPr/>
            <p:nvPr/>
          </p:nvSpPr>
          <p:spPr>
            <a:xfrm>
              <a:off x="3511440" y="1935000"/>
              <a:ext cx="10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3359160" y="795240"/>
            <a:ext cx="1244520" cy="1077120"/>
            <a:chOff x="3359160" y="795240"/>
            <a:chExt cx="1244520" cy="1077120"/>
          </a:xfrm>
        </p:grpSpPr>
        <p:sp>
          <p:nvSpPr>
            <p:cNvPr id="245" name="Text Box 10"/>
            <p:cNvSpPr/>
            <p:nvPr/>
          </p:nvSpPr>
          <p:spPr>
            <a:xfrm>
              <a:off x="3359160" y="803160"/>
              <a:ext cx="3571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1"/>
            <p:cNvSpPr/>
            <p:nvPr/>
          </p:nvSpPr>
          <p:spPr>
            <a:xfrm>
              <a:off x="3511440" y="795240"/>
              <a:ext cx="10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c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3960720" y="803160"/>
              <a:ext cx="3571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5"/>
          <p:cNvSpPr/>
          <p:nvPr/>
        </p:nvSpPr>
        <p:spPr>
          <a:xfrm>
            <a:off x="0" y="3040200"/>
            <a:ext cx="891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mma Rul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independent clause precedes and independent claus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 comma and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ordinating conjun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us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1"/>
          <p:cNvSpPr/>
          <p:nvPr/>
        </p:nvSpPr>
        <p:spPr>
          <a:xfrm>
            <a:off x="3271680" y="911160"/>
            <a:ext cx="1092240" cy="619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joined by comma &amp; coordinating conj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31840" y="150804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joined by a semico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"/>
          <p:cNvGrpSpPr/>
          <p:nvPr/>
        </p:nvGrpSpPr>
        <p:grpSpPr>
          <a:xfrm>
            <a:off x="3424320" y="1863720"/>
            <a:ext cx="1380960" cy="713880"/>
            <a:chOff x="3424320" y="1863720"/>
            <a:chExt cx="1380960" cy="713880"/>
          </a:xfrm>
        </p:grpSpPr>
        <p:sp>
          <p:nvSpPr>
            <p:cNvPr id="254" name="Text Box 7"/>
            <p:cNvSpPr/>
            <p:nvPr/>
          </p:nvSpPr>
          <p:spPr>
            <a:xfrm>
              <a:off x="3424320" y="1863720"/>
              <a:ext cx="13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  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"/>
            <p:cNvSpPr/>
            <p:nvPr/>
          </p:nvSpPr>
          <p:spPr>
            <a:xfrm>
              <a:off x="3576600" y="1935000"/>
              <a:ext cx="10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9"/>
          <p:cNvGrpSpPr/>
          <p:nvPr/>
        </p:nvGrpSpPr>
        <p:grpSpPr>
          <a:xfrm>
            <a:off x="3359160" y="795240"/>
            <a:ext cx="1244520" cy="1077120"/>
            <a:chOff x="3359160" y="795240"/>
            <a:chExt cx="1244520" cy="1077120"/>
          </a:xfrm>
        </p:grpSpPr>
        <p:sp>
          <p:nvSpPr>
            <p:cNvPr id="257" name="Text Box 10"/>
            <p:cNvSpPr/>
            <p:nvPr/>
          </p:nvSpPr>
          <p:spPr>
            <a:xfrm>
              <a:off x="3359160" y="803160"/>
              <a:ext cx="3571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1"/>
            <p:cNvSpPr/>
            <p:nvPr/>
          </p:nvSpPr>
          <p:spPr>
            <a:xfrm>
              <a:off x="3511440" y="795240"/>
              <a:ext cx="10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c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2"/>
            <p:cNvSpPr/>
            <p:nvPr/>
          </p:nvSpPr>
          <p:spPr>
            <a:xfrm>
              <a:off x="3960720" y="803160"/>
              <a:ext cx="3571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5"/>
          <p:cNvSpPr/>
          <p:nvPr/>
        </p:nvSpPr>
        <p:spPr>
          <a:xfrm>
            <a:off x="0" y="3040200"/>
            <a:ext cx="891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mma Rul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independent clause precedes an independent claus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 comma and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ordinating conjun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us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240000" y="3857760"/>
            <a:ext cx="46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4159080"/>
            <a:ext cx="891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mma Rul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independent clause precedes an independent claus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 semicol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be  us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5"/>
          <p:cNvSpPr/>
          <p:nvPr/>
        </p:nvSpPr>
        <p:spPr>
          <a:xfrm>
            <a:off x="3224160" y="1969920"/>
            <a:ext cx="1090800" cy="619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joined by comma &amp; coordinating conj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31840" y="150804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joined by a semico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0" y="3359160"/>
            <a:ext cx="87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y and Linda ran to the playground and climbed into the swin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6"/>
          <p:cNvGrpSpPr/>
          <p:nvPr/>
        </p:nvGrpSpPr>
        <p:grpSpPr>
          <a:xfrm>
            <a:off x="3359160" y="1863720"/>
            <a:ext cx="1380960" cy="713880"/>
            <a:chOff x="3359160" y="1863720"/>
            <a:chExt cx="1380960" cy="713880"/>
          </a:xfrm>
        </p:grpSpPr>
        <p:sp>
          <p:nvSpPr>
            <p:cNvPr id="269" name="Text Box 7"/>
            <p:cNvSpPr/>
            <p:nvPr/>
          </p:nvSpPr>
          <p:spPr>
            <a:xfrm>
              <a:off x="3359160" y="1863720"/>
              <a:ext cx="13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  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3511440" y="1935000"/>
              <a:ext cx="10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9"/>
          <p:cNvGrpSpPr/>
          <p:nvPr/>
        </p:nvGrpSpPr>
        <p:grpSpPr>
          <a:xfrm>
            <a:off x="3359160" y="795240"/>
            <a:ext cx="1244520" cy="1077120"/>
            <a:chOff x="3359160" y="795240"/>
            <a:chExt cx="1244520" cy="1077120"/>
          </a:xfrm>
        </p:grpSpPr>
        <p:sp>
          <p:nvSpPr>
            <p:cNvPr id="272" name="Text Box 10"/>
            <p:cNvSpPr/>
            <p:nvPr/>
          </p:nvSpPr>
          <p:spPr>
            <a:xfrm>
              <a:off x="3359160" y="803160"/>
              <a:ext cx="3571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1"/>
            <p:cNvSpPr/>
            <p:nvPr/>
          </p:nvSpPr>
          <p:spPr>
            <a:xfrm>
              <a:off x="3511440" y="795240"/>
              <a:ext cx="10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c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3960720" y="803160"/>
              <a:ext cx="3571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13"/>
          <p:cNvSpPr/>
          <p:nvPr/>
        </p:nvSpPr>
        <p:spPr>
          <a:xfrm>
            <a:off x="0" y="287028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Simple sentence with compound subjects &amp; verb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4697280" y="3295800"/>
            <a:ext cx="0" cy="113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8"/>
          <p:cNvGrpSpPr/>
          <p:nvPr/>
        </p:nvGrpSpPr>
        <p:grpSpPr>
          <a:xfrm>
            <a:off x="109440" y="3713040"/>
            <a:ext cx="630360" cy="520560"/>
            <a:chOff x="109440" y="3713040"/>
            <a:chExt cx="630360" cy="520560"/>
          </a:xfrm>
        </p:grpSpPr>
        <p:sp>
          <p:nvSpPr>
            <p:cNvPr id="278" name="Text Box 29"/>
            <p:cNvSpPr/>
            <p:nvPr/>
          </p:nvSpPr>
          <p:spPr>
            <a:xfrm>
              <a:off x="177840" y="3713040"/>
              <a:ext cx="4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S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0"/>
            <p:cNvSpPr/>
            <p:nvPr/>
          </p:nvSpPr>
          <p:spPr>
            <a:xfrm>
              <a:off x="109440" y="3755880"/>
              <a:ext cx="63036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1879560" y="3675240"/>
            <a:ext cx="560160" cy="520560"/>
            <a:chOff x="1879560" y="3675240"/>
            <a:chExt cx="560160" cy="520560"/>
          </a:xfrm>
        </p:grpSpPr>
        <p:sp>
          <p:nvSpPr>
            <p:cNvPr id="281" name="Text Box 32"/>
            <p:cNvSpPr/>
            <p:nvPr/>
          </p:nvSpPr>
          <p:spPr>
            <a:xfrm>
              <a:off x="1879560" y="3675240"/>
              <a:ext cx="56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V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33"/>
            <p:cNvGrpSpPr/>
            <p:nvPr/>
          </p:nvGrpSpPr>
          <p:grpSpPr>
            <a:xfrm>
              <a:off x="1923840" y="3714840"/>
              <a:ext cx="474840" cy="55080"/>
              <a:chOff x="1923840" y="3714840"/>
              <a:chExt cx="474840" cy="55080"/>
            </a:xfrm>
          </p:grpSpPr>
          <p:sp>
            <p:nvSpPr>
              <p:cNvPr id="283" name="Line 34"/>
              <p:cNvSpPr/>
              <p:nvPr/>
            </p:nvSpPr>
            <p:spPr>
              <a:xfrm>
                <a:off x="1923840" y="3714840"/>
                <a:ext cx="47484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35"/>
              <p:cNvSpPr/>
              <p:nvPr/>
            </p:nvSpPr>
            <p:spPr>
              <a:xfrm>
                <a:off x="1923840" y="3769920"/>
                <a:ext cx="47484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37"/>
          <p:cNvGrpSpPr/>
          <p:nvPr/>
        </p:nvGrpSpPr>
        <p:grpSpPr>
          <a:xfrm>
            <a:off x="1246320" y="3675240"/>
            <a:ext cx="630000" cy="520560"/>
            <a:chOff x="1246320" y="3675240"/>
            <a:chExt cx="630000" cy="520560"/>
          </a:xfrm>
        </p:grpSpPr>
        <p:sp>
          <p:nvSpPr>
            <p:cNvPr id="286" name="Text Box 38"/>
            <p:cNvSpPr/>
            <p:nvPr/>
          </p:nvSpPr>
          <p:spPr>
            <a:xfrm>
              <a:off x="1314360" y="3675240"/>
              <a:ext cx="49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S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9"/>
            <p:cNvSpPr/>
            <p:nvPr/>
          </p:nvSpPr>
          <p:spPr>
            <a:xfrm>
              <a:off x="1246320" y="3717720"/>
              <a:ext cx="63000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54"/>
          <p:cNvGrpSpPr/>
          <p:nvPr/>
        </p:nvGrpSpPr>
        <p:grpSpPr>
          <a:xfrm>
            <a:off x="5246640" y="4173480"/>
            <a:ext cx="3011400" cy="1905480"/>
            <a:chOff x="5246640" y="4173480"/>
            <a:chExt cx="3011400" cy="1905480"/>
          </a:xfrm>
        </p:grpSpPr>
        <p:sp>
          <p:nvSpPr>
            <p:cNvPr id="289" name="Text Box 41"/>
            <p:cNvSpPr/>
            <p:nvPr/>
          </p:nvSpPr>
          <p:spPr>
            <a:xfrm>
              <a:off x="5611680" y="4635360"/>
              <a:ext cx="2565360" cy="14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verb, but no subject  = not a clause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3"/>
            <p:cNvSpPr/>
            <p:nvPr/>
          </p:nvSpPr>
          <p:spPr>
            <a:xfrm rot="16200000">
              <a:off x="6574320" y="2845440"/>
              <a:ext cx="355680" cy="3011400"/>
            </a:xfrm>
            <a:custGeom>
              <a:avLst/>
              <a:gdLst>
                <a:gd name="textAreaLeft" fmla="*/ 227160 w 355680"/>
                <a:gd name="textAreaRight" fmla="*/ 356040 w 355680"/>
                <a:gd name="textAreaTop" fmla="*/ 78480 h 3011400"/>
                <a:gd name="textAreaBottom" fmla="*/ 2932920 h 30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45"/>
          <p:cNvGrpSpPr/>
          <p:nvPr/>
        </p:nvGrpSpPr>
        <p:grpSpPr>
          <a:xfrm>
            <a:off x="5276880" y="3681360"/>
            <a:ext cx="906120" cy="520560"/>
            <a:chOff x="5276880" y="3681360"/>
            <a:chExt cx="906120" cy="520560"/>
          </a:xfrm>
        </p:grpSpPr>
        <p:sp>
          <p:nvSpPr>
            <p:cNvPr id="292" name="Text Box 46"/>
            <p:cNvSpPr/>
            <p:nvPr/>
          </p:nvSpPr>
          <p:spPr>
            <a:xfrm>
              <a:off x="5276880" y="368136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V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47"/>
            <p:cNvGrpSpPr/>
            <p:nvPr/>
          </p:nvGrpSpPr>
          <p:grpSpPr>
            <a:xfrm>
              <a:off x="5348160" y="3719160"/>
              <a:ext cx="767880" cy="52560"/>
              <a:chOff x="5348160" y="3719160"/>
              <a:chExt cx="767880" cy="52560"/>
            </a:xfrm>
          </p:grpSpPr>
          <p:sp>
            <p:nvSpPr>
              <p:cNvPr id="294" name="Line 48"/>
              <p:cNvSpPr/>
              <p:nvPr/>
            </p:nvSpPr>
            <p:spPr>
              <a:xfrm>
                <a:off x="5348160" y="3719160"/>
                <a:ext cx="76788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49"/>
              <p:cNvSpPr/>
              <p:nvPr/>
            </p:nvSpPr>
            <p:spPr>
              <a:xfrm>
                <a:off x="5348160" y="3771720"/>
                <a:ext cx="76788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50"/>
          <p:cNvGrpSpPr/>
          <p:nvPr/>
        </p:nvGrpSpPr>
        <p:grpSpPr>
          <a:xfrm>
            <a:off x="136440" y="4173120"/>
            <a:ext cx="5001840" cy="1531440"/>
            <a:chOff x="136440" y="4173120"/>
            <a:chExt cx="5001840" cy="1531440"/>
          </a:xfrm>
        </p:grpSpPr>
        <p:sp>
          <p:nvSpPr>
            <p:cNvPr id="297" name="AutoShape 51"/>
            <p:cNvSpPr/>
            <p:nvPr/>
          </p:nvSpPr>
          <p:spPr>
            <a:xfrm rot="16200000">
              <a:off x="2377080" y="2450520"/>
              <a:ext cx="261000" cy="3705840"/>
            </a:xfrm>
            <a:custGeom>
              <a:avLst/>
              <a:gdLst>
                <a:gd name="textAreaLeft" fmla="*/ 166680 w 261000"/>
                <a:gd name="textAreaRight" fmla="*/ 261360 w 261000"/>
                <a:gd name="textAreaTop" fmla="*/ 96480 h 3705840"/>
                <a:gd name="textAreaBottom" fmla="*/ 3609360 h 37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2"/>
            <p:cNvSpPr/>
            <p:nvPr/>
          </p:nvSpPr>
          <p:spPr>
            <a:xfrm>
              <a:off x="136440" y="4535280"/>
              <a:ext cx="50018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SS V (independent clause)</a:t>
              </a: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55"/>
          <p:cNvSpPr/>
          <p:nvPr/>
        </p:nvSpPr>
        <p:spPr>
          <a:xfrm>
            <a:off x="0" y="4154400"/>
            <a:ext cx="873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nce there</a:t>
            </a: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 only one clause in this sentence,                           it</a:t>
            </a:r>
            <a:r>
              <a:rPr b="1" lang="ja-JP" sz="24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 a simple sentence containing 2 subjects &amp; two ver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6"/>
          <p:cNvSpPr/>
          <p:nvPr/>
        </p:nvSpPr>
        <p:spPr>
          <a:xfrm>
            <a:off x="152280" y="49737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SS V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joined by comma &amp; coordinating conj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31840" y="150804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joined by a semico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0" y="3359160"/>
            <a:ext cx="87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y and Linda ran to the playground and climbed into the swin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7"/>
          <p:cNvGrpSpPr/>
          <p:nvPr/>
        </p:nvGrpSpPr>
        <p:grpSpPr>
          <a:xfrm>
            <a:off x="3359160" y="1863720"/>
            <a:ext cx="1380960" cy="713880"/>
            <a:chOff x="3359160" y="1863720"/>
            <a:chExt cx="1380960" cy="713880"/>
          </a:xfrm>
        </p:grpSpPr>
        <p:sp>
          <p:nvSpPr>
            <p:cNvPr id="306" name="Text Box 8"/>
            <p:cNvSpPr/>
            <p:nvPr/>
          </p:nvSpPr>
          <p:spPr>
            <a:xfrm>
              <a:off x="3359160" y="1863720"/>
              <a:ext cx="13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  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3511440" y="1935000"/>
              <a:ext cx="10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2"/>
          <p:cNvGrpSpPr/>
          <p:nvPr/>
        </p:nvGrpSpPr>
        <p:grpSpPr>
          <a:xfrm>
            <a:off x="3359160" y="795240"/>
            <a:ext cx="1244520" cy="1077120"/>
            <a:chOff x="3359160" y="795240"/>
            <a:chExt cx="1244520" cy="1077120"/>
          </a:xfrm>
        </p:grpSpPr>
        <p:sp>
          <p:nvSpPr>
            <p:cNvPr id="309" name="Text Box 11"/>
            <p:cNvSpPr/>
            <p:nvPr/>
          </p:nvSpPr>
          <p:spPr>
            <a:xfrm>
              <a:off x="3359160" y="803160"/>
              <a:ext cx="3571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2"/>
            <p:cNvSpPr/>
            <p:nvPr/>
          </p:nvSpPr>
          <p:spPr>
            <a:xfrm>
              <a:off x="3511440" y="795240"/>
              <a:ext cx="109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c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3"/>
            <p:cNvSpPr/>
            <p:nvPr/>
          </p:nvSpPr>
          <p:spPr>
            <a:xfrm>
              <a:off x="3960720" y="803160"/>
              <a:ext cx="3571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33"/>
          <p:cNvSpPr/>
          <p:nvPr/>
        </p:nvSpPr>
        <p:spPr>
          <a:xfrm>
            <a:off x="0" y="287028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Simple sentence with compound subjects &amp; verb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4"/>
          <p:cNvSpPr/>
          <p:nvPr/>
        </p:nvSpPr>
        <p:spPr>
          <a:xfrm>
            <a:off x="0" y="4084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Compound sentence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5"/>
          <p:cNvSpPr/>
          <p:nvPr/>
        </p:nvSpPr>
        <p:spPr>
          <a:xfrm>
            <a:off x="0" y="4495680"/>
            <a:ext cx="87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y ran to the playground, and Linda climbed into the sw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8"/>
          <p:cNvGrpSpPr/>
          <p:nvPr/>
        </p:nvGrpSpPr>
        <p:grpSpPr>
          <a:xfrm>
            <a:off x="47520" y="4457880"/>
            <a:ext cx="3413160" cy="1664640"/>
            <a:chOff x="47520" y="4457880"/>
            <a:chExt cx="3413160" cy="1664640"/>
          </a:xfrm>
        </p:grpSpPr>
        <p:sp>
          <p:nvSpPr>
            <p:cNvPr id="316" name="Rectangle 36"/>
            <p:cNvSpPr/>
            <p:nvPr/>
          </p:nvSpPr>
          <p:spPr>
            <a:xfrm>
              <a:off x="47520" y="4457880"/>
              <a:ext cx="3413160" cy="636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37"/>
            <p:cNvSpPr/>
            <p:nvPr/>
          </p:nvSpPr>
          <p:spPr>
            <a:xfrm>
              <a:off x="374400" y="5062680"/>
              <a:ext cx="2644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This could be a sentence by itsel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pendent claus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39"/>
          <p:cNvGrpSpPr/>
          <p:nvPr/>
        </p:nvGrpSpPr>
        <p:grpSpPr>
          <a:xfrm>
            <a:off x="4021200" y="4457880"/>
            <a:ext cx="3935160" cy="1652400"/>
            <a:chOff x="4021200" y="4457880"/>
            <a:chExt cx="3935160" cy="1652400"/>
          </a:xfrm>
        </p:grpSpPr>
        <p:sp>
          <p:nvSpPr>
            <p:cNvPr id="319" name="Rectangle 40"/>
            <p:cNvSpPr/>
            <p:nvPr/>
          </p:nvSpPr>
          <p:spPr>
            <a:xfrm>
              <a:off x="4021200" y="4457880"/>
              <a:ext cx="3935160" cy="6235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1"/>
            <p:cNvSpPr/>
            <p:nvPr/>
          </p:nvSpPr>
          <p:spPr>
            <a:xfrm>
              <a:off x="4397760" y="5050440"/>
              <a:ext cx="30495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This could be a               sentence  by itsel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independent claus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59"/>
          <p:cNvSpPr/>
          <p:nvPr/>
        </p:nvSpPr>
        <p:spPr>
          <a:xfrm>
            <a:off x="1425600" y="47084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Beca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an carried out the trash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2"/>
          <p:cNvSpPr/>
          <p:nvPr/>
        </p:nvSpPr>
        <p:spPr>
          <a:xfrm>
            <a:off x="2165400" y="3778200"/>
            <a:ext cx="40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 cleaned up the party me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6"/>
          <p:cNvSpPr/>
          <p:nvPr/>
        </p:nvSpPr>
        <p:spPr>
          <a:xfrm>
            <a:off x="1415880" y="377820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Si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d cleaned up the party mess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lex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ependent cla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 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1146240" y="954000"/>
            <a:ext cx="45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ependent clause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2"/>
          <p:cNvSpPr/>
          <p:nvPr/>
        </p:nvSpPr>
        <p:spPr>
          <a:xfrm>
            <a:off x="2276640" y="1547640"/>
            <a:ext cx="75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dependent clause preceded by a </a:t>
            </a: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subordinating conj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3"/>
          <p:cNvSpPr/>
          <p:nvPr/>
        </p:nvSpPr>
        <p:spPr>
          <a:xfrm>
            <a:off x="0" y="2690640"/>
            <a:ext cx="14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eca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4"/>
          <p:cNvSpPr/>
          <p:nvPr/>
        </p:nvSpPr>
        <p:spPr>
          <a:xfrm>
            <a:off x="1676520" y="2690640"/>
            <a:ext cx="10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v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5"/>
          <p:cNvSpPr/>
          <p:nvPr/>
        </p:nvSpPr>
        <p:spPr>
          <a:xfrm>
            <a:off x="2897280" y="269064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6"/>
          <p:cNvSpPr/>
          <p:nvPr/>
        </p:nvSpPr>
        <p:spPr>
          <a:xfrm>
            <a:off x="3564000" y="2690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howe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7"/>
          <p:cNvSpPr/>
          <p:nvPr/>
        </p:nvSpPr>
        <p:spPr>
          <a:xfrm>
            <a:off x="5175360" y="2690640"/>
            <a:ext cx="10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si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8"/>
          <p:cNvSpPr/>
          <p:nvPr/>
        </p:nvSpPr>
        <p:spPr>
          <a:xfrm>
            <a:off x="6427800" y="26906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wh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9"/>
          <p:cNvSpPr/>
          <p:nvPr/>
        </p:nvSpPr>
        <p:spPr>
          <a:xfrm>
            <a:off x="7583400" y="2690640"/>
            <a:ext cx="15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lthoug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250920" y="357660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5"/>
          <p:cNvSpPr/>
          <p:nvPr/>
        </p:nvSpPr>
        <p:spPr>
          <a:xfrm>
            <a:off x="250920" y="357660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2174760" y="4708440"/>
            <a:ext cx="40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an carried out the tras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0"/>
          <p:cNvSpPr/>
          <p:nvPr/>
        </p:nvSpPr>
        <p:spPr>
          <a:xfrm>
            <a:off x="260280" y="4506840"/>
            <a:ext cx="8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1"/>
          <p:cNvSpPr/>
          <p:nvPr/>
        </p:nvSpPr>
        <p:spPr>
          <a:xfrm>
            <a:off x="260280" y="4506840"/>
            <a:ext cx="8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5"/>
          <p:cNvSpPr/>
          <p:nvPr/>
        </p:nvSpPr>
        <p:spPr>
          <a:xfrm>
            <a:off x="1450800" y="549576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d went to town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6"/>
          <p:cNvSpPr/>
          <p:nvPr/>
        </p:nvSpPr>
        <p:spPr>
          <a:xfrm>
            <a:off x="2200320" y="5495760"/>
            <a:ext cx="40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 went to tow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7"/>
          <p:cNvSpPr/>
          <p:nvPr/>
        </p:nvSpPr>
        <p:spPr>
          <a:xfrm>
            <a:off x="285840" y="529416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8"/>
          <p:cNvSpPr/>
          <p:nvPr/>
        </p:nvSpPr>
        <p:spPr>
          <a:xfrm>
            <a:off x="285840" y="529416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2"/>
          <p:cNvSpPr/>
          <p:nvPr/>
        </p:nvSpPr>
        <p:spPr>
          <a:xfrm>
            <a:off x="8750160" y="1406520"/>
            <a:ext cx="39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317200" y="422100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Jean Schumaker &amp; Jan Sheld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2320" y="1400040"/>
            <a:ext cx="525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S: After viewing this presentation, you should be able to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2320" y="2200320"/>
            <a:ext cx="562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Explain each of the four types of sentence structures and their associated formula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1"/>
          <p:cNvGrpSpPr/>
          <p:nvPr/>
        </p:nvGrpSpPr>
        <p:grpSpPr>
          <a:xfrm>
            <a:off x="304920" y="201600"/>
            <a:ext cx="7848360" cy="905400"/>
            <a:chOff x="304920" y="201600"/>
            <a:chExt cx="7848360" cy="905400"/>
          </a:xfrm>
        </p:grpSpPr>
        <p:sp>
          <p:nvSpPr>
            <p:cNvPr id="74" name="Text Box 23"/>
            <p:cNvSpPr/>
            <p:nvPr/>
          </p:nvSpPr>
          <p:spPr>
            <a:xfrm>
              <a:off x="304920" y="58644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Sentence Writing Strategy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3"/>
            <p:cNvSpPr/>
            <p:nvPr/>
          </p:nvSpPr>
          <p:spPr>
            <a:xfrm>
              <a:off x="304920" y="201600"/>
              <a:ext cx="78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Fundamentals in th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7"/>
          <p:cNvSpPr/>
          <p:nvPr/>
        </p:nvSpPr>
        <p:spPr>
          <a:xfrm>
            <a:off x="22320" y="3244680"/>
            <a:ext cx="562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ose sample sentences that correctly reflect each of the sentence formula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fund_sent_writing_student.jpg"/>
          <p:cNvPicPr/>
          <p:nvPr/>
        </p:nvPicPr>
        <p:blipFill>
          <a:blip r:embed="rId1"/>
          <a:stretch/>
        </p:blipFill>
        <p:spPr>
          <a:xfrm>
            <a:off x="5418000" y="0"/>
            <a:ext cx="4064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339840" y="2568600"/>
            <a:ext cx="85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Fred cleaned up the party mes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since Jean carried out the trash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lex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ependent cla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 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7"/>
          <p:cNvSpPr/>
          <p:nvPr/>
        </p:nvSpPr>
        <p:spPr>
          <a:xfrm>
            <a:off x="331920" y="114300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1509840" y="125748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ependent cla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388800" y="1628640"/>
            <a:ext cx="12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,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1531800" y="1752480"/>
            <a:ext cx="89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ed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ependent cl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2"/>
          <p:cNvGrpSpPr/>
          <p:nvPr/>
        </p:nvGrpSpPr>
        <p:grpSpPr>
          <a:xfrm>
            <a:off x="326880" y="3068280"/>
            <a:ext cx="3773520" cy="1342440"/>
            <a:chOff x="326880" y="3068280"/>
            <a:chExt cx="3773520" cy="1342440"/>
          </a:xfrm>
        </p:grpSpPr>
        <p:sp>
          <p:nvSpPr>
            <p:cNvPr id="352" name="Text Box 28"/>
            <p:cNvSpPr/>
            <p:nvPr/>
          </p:nvSpPr>
          <p:spPr>
            <a:xfrm>
              <a:off x="2001960" y="3219480"/>
              <a:ext cx="42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9"/>
            <p:cNvSpPr/>
            <p:nvPr/>
          </p:nvSpPr>
          <p:spPr>
            <a:xfrm rot="16200000">
              <a:off x="2099160" y="1295640"/>
              <a:ext cx="228600" cy="3773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8280 h 3773520"/>
                <a:gd name="textAreaBottom" fmla="*/ 3675240 h 377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3"/>
          <p:cNvGrpSpPr/>
          <p:nvPr/>
        </p:nvGrpSpPr>
        <p:grpSpPr>
          <a:xfrm>
            <a:off x="4430880" y="3068280"/>
            <a:ext cx="3773160" cy="793800"/>
            <a:chOff x="4430880" y="3068280"/>
            <a:chExt cx="3773160" cy="793800"/>
          </a:xfrm>
        </p:grpSpPr>
        <p:sp>
          <p:nvSpPr>
            <p:cNvPr id="355" name="AutoShape 30"/>
            <p:cNvSpPr/>
            <p:nvPr/>
          </p:nvSpPr>
          <p:spPr>
            <a:xfrm rot="16200000">
              <a:off x="6203160" y="1296000"/>
              <a:ext cx="228600" cy="37731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8280 h 3773160"/>
                <a:gd name="textAreaBottom" fmla="*/ 3674880 h 377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31"/>
            <p:cNvSpPr/>
            <p:nvPr/>
          </p:nvSpPr>
          <p:spPr>
            <a:xfrm>
              <a:off x="5991120" y="3219480"/>
              <a:ext cx="7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35"/>
          <p:cNvSpPr/>
          <p:nvPr/>
        </p:nvSpPr>
        <p:spPr>
          <a:xfrm>
            <a:off x="0" y="3602160"/>
            <a:ext cx="85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Since Jean carried out the trash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red cleaned up the party mes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36"/>
          <p:cNvGrpSpPr/>
          <p:nvPr/>
        </p:nvGrpSpPr>
        <p:grpSpPr>
          <a:xfrm>
            <a:off x="174600" y="4265280"/>
            <a:ext cx="3773160" cy="793800"/>
            <a:chOff x="174600" y="4265280"/>
            <a:chExt cx="3773160" cy="793800"/>
          </a:xfrm>
        </p:grpSpPr>
        <p:sp>
          <p:nvSpPr>
            <p:cNvPr id="359" name="AutoShape 37"/>
            <p:cNvSpPr/>
            <p:nvPr/>
          </p:nvSpPr>
          <p:spPr>
            <a:xfrm rot="16200000">
              <a:off x="1946880" y="2493000"/>
              <a:ext cx="228600" cy="37731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8280 h 3773160"/>
                <a:gd name="textAreaBottom" fmla="*/ 3674880 h 377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8"/>
            <p:cNvSpPr/>
            <p:nvPr/>
          </p:nvSpPr>
          <p:spPr>
            <a:xfrm>
              <a:off x="1734840" y="4416480"/>
              <a:ext cx="7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9"/>
          <p:cNvGrpSpPr/>
          <p:nvPr/>
        </p:nvGrpSpPr>
        <p:grpSpPr>
          <a:xfrm>
            <a:off x="4202280" y="4265280"/>
            <a:ext cx="3773160" cy="1342440"/>
            <a:chOff x="4202280" y="4265280"/>
            <a:chExt cx="3773160" cy="1342440"/>
          </a:xfrm>
        </p:grpSpPr>
        <p:sp>
          <p:nvSpPr>
            <p:cNvPr id="362" name="Text Box 40"/>
            <p:cNvSpPr/>
            <p:nvPr/>
          </p:nvSpPr>
          <p:spPr>
            <a:xfrm>
              <a:off x="5877000" y="4416480"/>
              <a:ext cx="42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1"/>
            <p:cNvSpPr/>
            <p:nvPr/>
          </p:nvSpPr>
          <p:spPr>
            <a:xfrm rot="16200000">
              <a:off x="5974560" y="2493000"/>
              <a:ext cx="228600" cy="37731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8280 h 3773160"/>
                <a:gd name="textAreaBottom" fmla="*/ 3674880 h 377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5"/>
          <p:cNvSpPr/>
          <p:nvPr/>
        </p:nvSpPr>
        <p:spPr>
          <a:xfrm>
            <a:off x="-27000" y="5106960"/>
            <a:ext cx="891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mma Rul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independent clause precedes a dependent clause, no comma is us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3390840" y="5348160"/>
            <a:ext cx="14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0" y="5915160"/>
            <a:ext cx="891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mma Rul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dependent clause precedes an independent clause, a comma follows the dependent clau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6137280" y="6278400"/>
            <a:ext cx="14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,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339840" y="2568600"/>
            <a:ext cx="85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y had a little lamb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because  she was really weir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3"/>
          <p:cNvGrpSpPr/>
          <p:nvPr/>
        </p:nvGrpSpPr>
        <p:grpSpPr>
          <a:xfrm>
            <a:off x="231840" y="0"/>
            <a:ext cx="10212480" cy="2271240"/>
            <a:chOff x="231840" y="0"/>
            <a:chExt cx="10212480" cy="2271240"/>
          </a:xfrm>
        </p:grpSpPr>
        <p:sp>
          <p:nvSpPr>
            <p:cNvPr id="370" name="Text Box 3"/>
            <p:cNvSpPr/>
            <p:nvPr/>
          </p:nvSpPr>
          <p:spPr>
            <a:xfrm>
              <a:off x="231840" y="0"/>
              <a:ext cx="89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Complex sentence =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4"/>
            <p:cNvSpPr/>
            <p:nvPr/>
          </p:nvSpPr>
          <p:spPr>
            <a:xfrm>
              <a:off x="231840" y="533520"/>
              <a:ext cx="89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dependent clause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us a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cc0099"/>
                  </a:solidFill>
                  <a:latin typeface="Arial"/>
                </a:rPr>
                <a:t>dependent claus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1509840" y="1257480"/>
              <a:ext cx="89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dependent claus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llowed by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cc0099"/>
                  </a:solidFill>
                  <a:latin typeface="Arial"/>
                </a:rPr>
                <a:t>dependent claus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22"/>
            <p:cNvGrpSpPr/>
            <p:nvPr/>
          </p:nvGrpSpPr>
          <p:grpSpPr>
            <a:xfrm>
              <a:off x="331920" y="1143000"/>
              <a:ext cx="1265040" cy="1128240"/>
              <a:chOff x="331920" y="1143000"/>
              <a:chExt cx="1265040" cy="1128240"/>
            </a:xfrm>
          </p:grpSpPr>
          <p:sp>
            <p:nvSpPr>
              <p:cNvPr id="374" name="Text Box 5"/>
              <p:cNvSpPr/>
              <p:nvPr/>
            </p:nvSpPr>
            <p:spPr>
              <a:xfrm>
                <a:off x="331920" y="1143000"/>
                <a:ext cx="120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ID 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7"/>
              <p:cNvSpPr/>
              <p:nvPr/>
            </p:nvSpPr>
            <p:spPr>
              <a:xfrm>
                <a:off x="388800" y="1628640"/>
                <a:ext cx="1208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D,I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8"/>
            <p:cNvSpPr/>
            <p:nvPr/>
          </p:nvSpPr>
          <p:spPr>
            <a:xfrm>
              <a:off x="1531800" y="1752480"/>
              <a:ext cx="891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99"/>
                  </a:solidFill>
                  <a:latin typeface="Arial"/>
                </a:rPr>
                <a:t>Dependent claus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llowed b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dependent claus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9"/>
          <p:cNvGrpSpPr/>
          <p:nvPr/>
        </p:nvGrpSpPr>
        <p:grpSpPr>
          <a:xfrm>
            <a:off x="326880" y="3068280"/>
            <a:ext cx="3773520" cy="1342440"/>
            <a:chOff x="326880" y="3068280"/>
            <a:chExt cx="3773520" cy="1342440"/>
          </a:xfrm>
        </p:grpSpPr>
        <p:sp>
          <p:nvSpPr>
            <p:cNvPr id="378" name="Text Box 10"/>
            <p:cNvSpPr/>
            <p:nvPr/>
          </p:nvSpPr>
          <p:spPr>
            <a:xfrm>
              <a:off x="2001960" y="3219480"/>
              <a:ext cx="42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1"/>
            <p:cNvSpPr/>
            <p:nvPr/>
          </p:nvSpPr>
          <p:spPr>
            <a:xfrm rot="16200000">
              <a:off x="2099160" y="1295640"/>
              <a:ext cx="228600" cy="3773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8280 h 3773520"/>
                <a:gd name="textAreaBottom" fmla="*/ 3675240 h 377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2"/>
          <p:cNvGrpSpPr/>
          <p:nvPr/>
        </p:nvGrpSpPr>
        <p:grpSpPr>
          <a:xfrm>
            <a:off x="4430880" y="3068280"/>
            <a:ext cx="3773160" cy="793800"/>
            <a:chOff x="4430880" y="3068280"/>
            <a:chExt cx="3773160" cy="793800"/>
          </a:xfrm>
        </p:grpSpPr>
        <p:sp>
          <p:nvSpPr>
            <p:cNvPr id="381" name="AutoShape 13"/>
            <p:cNvSpPr/>
            <p:nvPr/>
          </p:nvSpPr>
          <p:spPr>
            <a:xfrm rot="16200000">
              <a:off x="6203160" y="1296000"/>
              <a:ext cx="228600" cy="37731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8280 h 3773160"/>
                <a:gd name="textAreaBottom" fmla="*/ 3674880 h 377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4"/>
            <p:cNvSpPr/>
            <p:nvPr/>
          </p:nvSpPr>
          <p:spPr>
            <a:xfrm>
              <a:off x="5991120" y="3219480"/>
              <a:ext cx="7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15"/>
          <p:cNvSpPr/>
          <p:nvPr/>
        </p:nvSpPr>
        <p:spPr>
          <a:xfrm>
            <a:off x="0" y="3602160"/>
            <a:ext cx="85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Because she was really weird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y had a little lam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6"/>
          <p:cNvGrpSpPr/>
          <p:nvPr/>
        </p:nvGrpSpPr>
        <p:grpSpPr>
          <a:xfrm>
            <a:off x="174600" y="4265280"/>
            <a:ext cx="3773160" cy="793800"/>
            <a:chOff x="174600" y="4265280"/>
            <a:chExt cx="3773160" cy="793800"/>
          </a:xfrm>
        </p:grpSpPr>
        <p:sp>
          <p:nvSpPr>
            <p:cNvPr id="385" name="AutoShape 17"/>
            <p:cNvSpPr/>
            <p:nvPr/>
          </p:nvSpPr>
          <p:spPr>
            <a:xfrm rot="16200000">
              <a:off x="1946880" y="2493000"/>
              <a:ext cx="228600" cy="37731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8280 h 3773160"/>
                <a:gd name="textAreaBottom" fmla="*/ 3674880 h 377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1734840" y="4416480"/>
              <a:ext cx="7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9"/>
          <p:cNvGrpSpPr/>
          <p:nvPr/>
        </p:nvGrpSpPr>
        <p:grpSpPr>
          <a:xfrm>
            <a:off x="4202280" y="4265280"/>
            <a:ext cx="3773160" cy="1342440"/>
            <a:chOff x="4202280" y="4265280"/>
            <a:chExt cx="3773160" cy="1342440"/>
          </a:xfrm>
        </p:grpSpPr>
        <p:sp>
          <p:nvSpPr>
            <p:cNvPr id="388" name="Text Box 20"/>
            <p:cNvSpPr/>
            <p:nvPr/>
          </p:nvSpPr>
          <p:spPr>
            <a:xfrm>
              <a:off x="5877000" y="4416480"/>
              <a:ext cx="42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21"/>
            <p:cNvSpPr/>
            <p:nvPr/>
          </p:nvSpPr>
          <p:spPr>
            <a:xfrm rot="16200000">
              <a:off x="5974560" y="2493000"/>
              <a:ext cx="228600" cy="37731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8280 h 3773160"/>
                <a:gd name="textAreaBottom" fmla="*/ 3674880 h 377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 Box 24"/>
          <p:cNvSpPr/>
          <p:nvPr/>
        </p:nvSpPr>
        <p:spPr>
          <a:xfrm>
            <a:off x="0" y="5170320"/>
            <a:ext cx="85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b rode his bike across the mountai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although he was really tir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0" y="5248440"/>
            <a:ext cx="880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Although he was really tired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b rode his bike across the mountai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7"/>
          <p:cNvSpPr/>
          <p:nvPr/>
        </p:nvSpPr>
        <p:spPr>
          <a:xfrm>
            <a:off x="0" y="6191280"/>
            <a:ext cx="85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If Sam tried harder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e could loose more weigh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8"/>
          <p:cNvSpPr/>
          <p:nvPr/>
        </p:nvSpPr>
        <p:spPr>
          <a:xfrm>
            <a:off x="0" y="6170760"/>
            <a:ext cx="85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e could loose more weight </a:t>
            </a: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if Sam tried har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-complex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 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2049480" y="1096920"/>
            <a:ext cx="29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  I  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2185920" y="2951280"/>
            <a:ext cx="291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  D  I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9"/>
          <p:cNvSpPr/>
          <p:nvPr/>
        </p:nvSpPr>
        <p:spPr>
          <a:xfrm>
            <a:off x="2022480" y="4916520"/>
            <a:ext cx="29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  I  I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0"/>
          <p:cNvSpPr/>
          <p:nvPr/>
        </p:nvSpPr>
        <p:spPr>
          <a:xfrm>
            <a:off x="0" y="2063880"/>
            <a:ext cx="880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b rode his bike across the mountain, so he could see the other side </a:t>
            </a: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although he was really tire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1"/>
          <p:cNvSpPr/>
          <p:nvPr/>
        </p:nvSpPr>
        <p:spPr>
          <a:xfrm>
            <a:off x="0" y="3757680"/>
            <a:ext cx="8809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b rode his bike across the mountain </a:t>
            </a: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although he was really tired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 he could see the other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2"/>
          <p:cNvSpPr/>
          <p:nvPr/>
        </p:nvSpPr>
        <p:spPr>
          <a:xfrm>
            <a:off x="0" y="5786280"/>
            <a:ext cx="880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Although he was really ti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b rode his bike across the mountain, so he could see the other side</a:t>
            </a: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-complex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 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541680" y="1731960"/>
            <a:ext cx="291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   I   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0" y="1517760"/>
            <a:ext cx="323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How to punctuat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773280" y="4460760"/>
            <a:ext cx="1560240" cy="13874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3930480" y="1741320"/>
            <a:ext cx="9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13"/>
          <p:cNvGrpSpPr/>
          <p:nvPr/>
        </p:nvGrpSpPr>
        <p:grpSpPr>
          <a:xfrm>
            <a:off x="0" y="2776680"/>
            <a:ext cx="6116400" cy="2673720"/>
            <a:chOff x="0" y="2776680"/>
            <a:chExt cx="6116400" cy="2673720"/>
          </a:xfrm>
        </p:grpSpPr>
        <p:sp>
          <p:nvSpPr>
            <p:cNvPr id="409" name="Text Box 14"/>
            <p:cNvSpPr/>
            <p:nvPr/>
          </p:nvSpPr>
          <p:spPr>
            <a:xfrm>
              <a:off x="0" y="3832560"/>
              <a:ext cx="61164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DO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 need a comma </a:t>
              </a:r>
              <a:r>
                <a:rPr b="1" i="1" lang="en-US" sz="2800" spc="-1" strike="noStrike">
                  <a:solidFill>
                    <a:srgbClr val="008000"/>
                  </a:solidFill>
                  <a:latin typeface="Arial"/>
                </a:rPr>
                <a:t>and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 a coordinating conjunction when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is in front of another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5"/>
            <p:cNvSpPr/>
            <p:nvPr/>
          </p:nvSpPr>
          <p:spPr>
            <a:xfrm flipV="1">
              <a:off x="3348000" y="2776680"/>
              <a:ext cx="803160" cy="1182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-0.05278 L 0.47761 -0.39977 E">
                                      <p:cBhvr>
                                        <p:cTn id="787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-complex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 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541680" y="1731960"/>
            <a:ext cx="291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   I   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0" y="1517760"/>
            <a:ext cx="323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How to punctuat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3930480" y="1741320"/>
            <a:ext cx="9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0"/>
          <p:cNvGrpSpPr/>
          <p:nvPr/>
        </p:nvGrpSpPr>
        <p:grpSpPr>
          <a:xfrm>
            <a:off x="1130400" y="2570040"/>
            <a:ext cx="6116400" cy="2247120"/>
            <a:chOff x="1130400" y="2570040"/>
            <a:chExt cx="6116400" cy="2247120"/>
          </a:xfrm>
        </p:grpSpPr>
        <p:sp>
          <p:nvSpPr>
            <p:cNvPr id="417" name="Text Box 8"/>
            <p:cNvSpPr/>
            <p:nvPr/>
          </p:nvSpPr>
          <p:spPr>
            <a:xfrm>
              <a:off x="1130400" y="3625920"/>
              <a:ext cx="611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on</a:t>
              </a:r>
              <a:r>
                <a:rPr b="1" lang="ja-JP" sz="28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 need a comma when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is in front of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9"/>
            <p:cNvSpPr/>
            <p:nvPr/>
          </p:nvSpPr>
          <p:spPr>
            <a:xfrm flipV="1">
              <a:off x="4478400" y="2570040"/>
              <a:ext cx="803160" cy="1182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11"/>
          <p:cNvSpPr/>
          <p:nvPr/>
        </p:nvSpPr>
        <p:spPr>
          <a:xfrm>
            <a:off x="334800" y="4703760"/>
            <a:ext cx="88092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m went to class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 wouldn‘t loose points although he was late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473800" y="1542960"/>
            <a:ext cx="1560240" cy="13874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04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-complex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 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3541680" y="1731960"/>
            <a:ext cx="291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   D   I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0" y="1517760"/>
            <a:ext cx="323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How to punctuat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5318280" y="1771560"/>
            <a:ext cx="90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3233880" y="1542960"/>
            <a:ext cx="1560240" cy="13874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9"/>
          <p:cNvGrpSpPr/>
          <p:nvPr/>
        </p:nvGrpSpPr>
        <p:grpSpPr>
          <a:xfrm>
            <a:off x="1130400" y="2570040"/>
            <a:ext cx="6116400" cy="2247120"/>
            <a:chOff x="1130400" y="2570040"/>
            <a:chExt cx="6116400" cy="2247120"/>
          </a:xfrm>
        </p:grpSpPr>
        <p:sp>
          <p:nvSpPr>
            <p:cNvPr id="428" name="Text Box 10"/>
            <p:cNvSpPr/>
            <p:nvPr/>
          </p:nvSpPr>
          <p:spPr>
            <a:xfrm>
              <a:off x="1130400" y="3625920"/>
              <a:ext cx="611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DO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 need a comma when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is in front of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1"/>
            <p:cNvSpPr/>
            <p:nvPr/>
          </p:nvSpPr>
          <p:spPr>
            <a:xfrm flipV="1">
              <a:off x="4478400" y="2570040"/>
              <a:ext cx="803160" cy="1182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-complex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 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3541680" y="1731960"/>
            <a:ext cx="291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   D   I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0" y="1517760"/>
            <a:ext cx="323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How to punctuat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5318280" y="1771560"/>
            <a:ext cx="90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233880" y="1542960"/>
            <a:ext cx="1560240" cy="13874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11"/>
          <p:cNvGrpSpPr/>
          <p:nvPr/>
        </p:nvGrpSpPr>
        <p:grpSpPr>
          <a:xfrm>
            <a:off x="1130400" y="2695320"/>
            <a:ext cx="6116400" cy="2121840"/>
            <a:chOff x="1130400" y="2695320"/>
            <a:chExt cx="6116400" cy="2121840"/>
          </a:xfrm>
        </p:grpSpPr>
        <p:sp>
          <p:nvSpPr>
            <p:cNvPr id="437" name="Text Box 9"/>
            <p:cNvSpPr/>
            <p:nvPr/>
          </p:nvSpPr>
          <p:spPr>
            <a:xfrm>
              <a:off x="1130400" y="3625920"/>
              <a:ext cx="611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on</a:t>
              </a:r>
              <a:r>
                <a:rPr b="1" lang="ja-JP" sz="28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 need a comma when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is in front of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0"/>
            <p:cNvSpPr/>
            <p:nvPr/>
          </p:nvSpPr>
          <p:spPr>
            <a:xfrm flipH="1" flipV="1">
              <a:off x="4414320" y="2695320"/>
              <a:ext cx="63720" cy="1057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12"/>
          <p:cNvSpPr/>
          <p:nvPr/>
        </p:nvSpPr>
        <p:spPr>
          <a:xfrm>
            <a:off x="334800" y="4737240"/>
            <a:ext cx="88092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m went to class although he was late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so he wouldn‘t loose point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0.22917 2.59259E-006 E">
                                      <p:cBhvr>
                                        <p:cTn id="85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-complex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 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3541680" y="1731960"/>
            <a:ext cx="291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    I   I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0" y="1517760"/>
            <a:ext cx="323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How to punctuat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5613480" y="1574640"/>
            <a:ext cx="1560600" cy="13878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404640" y="2585880"/>
            <a:ext cx="6116400" cy="2247120"/>
            <a:chOff x="404640" y="2585880"/>
            <a:chExt cx="6116400" cy="2247120"/>
          </a:xfrm>
        </p:grpSpPr>
        <p:sp>
          <p:nvSpPr>
            <p:cNvPr id="446" name="Text Box 9"/>
            <p:cNvSpPr/>
            <p:nvPr/>
          </p:nvSpPr>
          <p:spPr>
            <a:xfrm>
              <a:off x="404640" y="3641760"/>
              <a:ext cx="611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DO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 need a comma when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is in front of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0"/>
            <p:cNvSpPr/>
            <p:nvPr/>
          </p:nvSpPr>
          <p:spPr>
            <a:xfrm flipV="1">
              <a:off x="3752640" y="2585880"/>
              <a:ext cx="803160" cy="1182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12"/>
          <p:cNvSpPr/>
          <p:nvPr/>
        </p:nvSpPr>
        <p:spPr>
          <a:xfrm>
            <a:off x="4270320" y="1771560"/>
            <a:ext cx="9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4"/>
          <p:cNvSpPr/>
          <p:nvPr/>
        </p:nvSpPr>
        <p:spPr>
          <a:xfrm>
            <a:off x="4270320" y="1771560"/>
            <a:ext cx="9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-complex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 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3541680" y="1731960"/>
            <a:ext cx="291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    I   I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0" y="1517760"/>
            <a:ext cx="323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How to punctuat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5270400" y="1771560"/>
            <a:ext cx="117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c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334800" y="5456160"/>
            <a:ext cx="88092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though he was late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m went to class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 wouldn‘t loose point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6"/>
          <p:cNvSpPr/>
          <p:nvPr/>
        </p:nvSpPr>
        <p:spPr>
          <a:xfrm>
            <a:off x="5533920" y="1574640"/>
            <a:ext cx="1560600" cy="13878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7"/>
          <p:cNvGrpSpPr/>
          <p:nvPr/>
        </p:nvGrpSpPr>
        <p:grpSpPr>
          <a:xfrm>
            <a:off x="1428840" y="2776680"/>
            <a:ext cx="6116400" cy="2673720"/>
            <a:chOff x="1428840" y="2776680"/>
            <a:chExt cx="6116400" cy="2673720"/>
          </a:xfrm>
        </p:grpSpPr>
        <p:sp>
          <p:nvSpPr>
            <p:cNvPr id="458" name="Text Box 18"/>
            <p:cNvSpPr/>
            <p:nvPr/>
          </p:nvSpPr>
          <p:spPr>
            <a:xfrm>
              <a:off x="1428840" y="3832560"/>
              <a:ext cx="61164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DO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 need a comma </a:t>
              </a:r>
              <a:r>
                <a:rPr b="1" i="1" lang="en-US" sz="2800" spc="-1" strike="noStrike">
                  <a:solidFill>
                    <a:srgbClr val="008000"/>
                  </a:solidFill>
                  <a:latin typeface="Arial"/>
                </a:rPr>
                <a:t>and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 a coordinating conjunction when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is in front of another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9"/>
            <p:cNvSpPr/>
            <p:nvPr/>
          </p:nvSpPr>
          <p:spPr>
            <a:xfrm flipV="1">
              <a:off x="4776840" y="2776680"/>
              <a:ext cx="803160" cy="1182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96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7"/>
          <p:cNvSpPr/>
          <p:nvPr/>
        </p:nvSpPr>
        <p:spPr>
          <a:xfrm>
            <a:off x="487440" y="3719520"/>
            <a:ext cx="88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went to class although he was late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, s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 wouldn‘t loose point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8"/>
          <p:cNvGrpSpPr/>
          <p:nvPr/>
        </p:nvGrpSpPr>
        <p:grpSpPr>
          <a:xfrm>
            <a:off x="2747880" y="706320"/>
            <a:ext cx="2911680" cy="1017720"/>
            <a:chOff x="2747880" y="706320"/>
            <a:chExt cx="2911680" cy="1017720"/>
          </a:xfrm>
        </p:grpSpPr>
        <p:sp>
          <p:nvSpPr>
            <p:cNvPr id="462" name="Text Box 19"/>
            <p:cNvSpPr/>
            <p:nvPr/>
          </p:nvSpPr>
          <p:spPr>
            <a:xfrm>
              <a:off x="2747880" y="706320"/>
              <a:ext cx="291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I    I   D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3136680" y="715680"/>
              <a:ext cx="90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c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3"/>
          <p:cNvSpPr/>
          <p:nvPr/>
        </p:nvSpPr>
        <p:spPr>
          <a:xfrm>
            <a:off x="231840" y="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-complex sentence 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231840" y="533520"/>
            <a:ext cx="89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Independent clau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 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ependent cla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13"/>
          <p:cNvGrpSpPr/>
          <p:nvPr/>
        </p:nvGrpSpPr>
        <p:grpSpPr>
          <a:xfrm>
            <a:off x="2684520" y="4981680"/>
            <a:ext cx="2911320" cy="1922760"/>
            <a:chOff x="2684520" y="4981680"/>
            <a:chExt cx="2911320" cy="1922760"/>
          </a:xfrm>
        </p:grpSpPr>
        <p:sp>
          <p:nvSpPr>
            <p:cNvPr id="467" name="Text Box 2"/>
            <p:cNvSpPr/>
            <p:nvPr/>
          </p:nvSpPr>
          <p:spPr>
            <a:xfrm>
              <a:off x="3412800" y="5021280"/>
              <a:ext cx="909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5"/>
            <p:cNvSpPr/>
            <p:nvPr/>
          </p:nvSpPr>
          <p:spPr>
            <a:xfrm>
              <a:off x="2684520" y="4981680"/>
              <a:ext cx="2911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D    I   I   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4412880" y="5021280"/>
              <a:ext cx="1177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cc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 Box 8"/>
          <p:cNvSpPr/>
          <p:nvPr/>
        </p:nvSpPr>
        <p:spPr>
          <a:xfrm>
            <a:off x="334800" y="5911920"/>
            <a:ext cx="880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though he was late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went to class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, so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 wouldn‘t loose point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14"/>
          <p:cNvGrpSpPr/>
          <p:nvPr/>
        </p:nvGrpSpPr>
        <p:grpSpPr>
          <a:xfrm>
            <a:off x="2747880" y="2828880"/>
            <a:ext cx="2911680" cy="1922760"/>
            <a:chOff x="2747880" y="2828880"/>
            <a:chExt cx="2911680" cy="1922760"/>
          </a:xfrm>
        </p:grpSpPr>
        <p:sp>
          <p:nvSpPr>
            <p:cNvPr id="472" name="Text Box 15"/>
            <p:cNvSpPr/>
            <p:nvPr/>
          </p:nvSpPr>
          <p:spPr>
            <a:xfrm>
              <a:off x="2747880" y="2828880"/>
              <a:ext cx="2911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I    D   I   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6"/>
            <p:cNvSpPr/>
            <p:nvPr/>
          </p:nvSpPr>
          <p:spPr>
            <a:xfrm>
              <a:off x="4524480" y="2868480"/>
              <a:ext cx="909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21"/>
          <p:cNvSpPr/>
          <p:nvPr/>
        </p:nvSpPr>
        <p:spPr>
          <a:xfrm>
            <a:off x="487440" y="1528920"/>
            <a:ext cx="88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went to class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, so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 wouldn‘t loose points although he was lat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0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10666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IM Learning Strategies Curriculu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839880"/>
            <a:ext cx="7620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cquisi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Ident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Quest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Imag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ing Visual Ai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3117960" y="839880"/>
            <a:ext cx="76197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or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-Letter Mnemon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ed Associ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ening and Noteta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410160" y="839880"/>
            <a:ext cx="315612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b3"/>
                </a:solidFill>
                <a:latin typeface="Arial"/>
              </a:rPr>
              <a:t>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nt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ragrap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ror 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ssignment Comp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est Ta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ssay Test Ta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SP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5"/>
          <p:cNvSpPr/>
          <p:nvPr/>
        </p:nvSpPr>
        <p:spPr>
          <a:xfrm>
            <a:off x="6707160" y="1547640"/>
            <a:ext cx="1986120" cy="614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5297400" y="4129200"/>
            <a:ext cx="291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4851360" y="370512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-compl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5297400" y="5851440"/>
            <a:ext cx="291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 I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5297400" y="4991040"/>
            <a:ext cx="291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I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851040" y="4129200"/>
            <a:ext cx="29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515880" y="370512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l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851040" y="4991040"/>
            <a:ext cx="29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I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1"/>
          <p:cNvSpPr/>
          <p:nvPr/>
        </p:nvSpPr>
        <p:spPr>
          <a:xfrm>
            <a:off x="4871880" y="71280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3"/>
          <p:cNvSpPr/>
          <p:nvPr/>
        </p:nvSpPr>
        <p:spPr>
          <a:xfrm>
            <a:off x="5207040" y="1173240"/>
            <a:ext cx="291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4"/>
          <p:cNvSpPr/>
          <p:nvPr/>
        </p:nvSpPr>
        <p:spPr>
          <a:xfrm>
            <a:off x="5207040" y="2181240"/>
            <a:ext cx="100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5"/>
          <p:cNvSpPr/>
          <p:nvPr/>
        </p:nvSpPr>
        <p:spPr>
          <a:xfrm>
            <a:off x="406440" y="71280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6"/>
          <p:cNvSpPr/>
          <p:nvPr/>
        </p:nvSpPr>
        <p:spPr>
          <a:xfrm>
            <a:off x="439560" y="1173240"/>
            <a:ext cx="291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7"/>
          <p:cNvSpPr/>
          <p:nvPr/>
        </p:nvSpPr>
        <p:spPr>
          <a:xfrm>
            <a:off x="1049400" y="1541520"/>
            <a:ext cx="165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V SSV SVV SSVV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3"/>
          <p:cNvGrpSpPr/>
          <p:nvPr/>
        </p:nvGrpSpPr>
        <p:grpSpPr>
          <a:xfrm>
            <a:off x="304920" y="201600"/>
            <a:ext cx="7848360" cy="905400"/>
            <a:chOff x="304920" y="201600"/>
            <a:chExt cx="7848360" cy="905400"/>
          </a:xfrm>
        </p:grpSpPr>
        <p:sp>
          <p:nvSpPr>
            <p:cNvPr id="489" name="Text Box 23"/>
            <p:cNvSpPr/>
            <p:nvPr/>
          </p:nvSpPr>
          <p:spPr>
            <a:xfrm>
              <a:off x="304920" y="58644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Sentence Writing Strategy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23"/>
            <p:cNvSpPr/>
            <p:nvPr/>
          </p:nvSpPr>
          <p:spPr>
            <a:xfrm>
              <a:off x="304920" y="201600"/>
              <a:ext cx="78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Fundamentals i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2"/>
          <p:cNvGrpSpPr/>
          <p:nvPr/>
        </p:nvGrpSpPr>
        <p:grpSpPr>
          <a:xfrm>
            <a:off x="152280" y="1160640"/>
            <a:ext cx="7531200" cy="4987800"/>
            <a:chOff x="152280" y="1160640"/>
            <a:chExt cx="7531200" cy="4987800"/>
          </a:xfrm>
        </p:grpSpPr>
        <p:pic>
          <p:nvPicPr>
            <p:cNvPr id="492" name="Picture 34" descr="Ellis pic.jpg"/>
            <p:cNvPicPr/>
            <p:nvPr/>
          </p:nvPicPr>
          <p:blipFill>
            <a:blip r:embed="rId1"/>
            <a:stretch/>
          </p:blipFill>
          <p:spPr>
            <a:xfrm>
              <a:off x="291960" y="1160640"/>
              <a:ext cx="2146320" cy="29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 Box 23"/>
            <p:cNvSpPr/>
            <p:nvPr/>
          </p:nvSpPr>
          <p:spPr>
            <a:xfrm>
              <a:off x="291960" y="4203720"/>
              <a:ext cx="647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Edwin Ellis, Ph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23"/>
            <p:cNvSpPr/>
            <p:nvPr/>
          </p:nvSpPr>
          <p:spPr>
            <a:xfrm>
              <a:off x="1206360" y="4665600"/>
              <a:ext cx="647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essor Emeritus, University of Alabam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23"/>
            <p:cNvSpPr/>
            <p:nvPr/>
          </p:nvSpPr>
          <p:spPr>
            <a:xfrm>
              <a:off x="1206360" y="5094360"/>
              <a:ext cx="647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search Affiliate, University of Kansas                                 Center for Research on Learnin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3"/>
            <p:cNvSpPr/>
            <p:nvPr/>
          </p:nvSpPr>
          <p:spPr>
            <a:xfrm>
              <a:off x="1206360" y="5735520"/>
              <a:ext cx="647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esident, Makes Sense Strategies, LL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7" descr="UA seal"/>
            <p:cNvPicPr/>
            <p:nvPr/>
          </p:nvPicPr>
          <p:blipFill>
            <a:blip r:embed="rId2"/>
            <a:stretch/>
          </p:blipFill>
          <p:spPr>
            <a:xfrm>
              <a:off x="466560" y="4578480"/>
              <a:ext cx="4860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9" descr="kucrl-logo"/>
            <p:cNvPicPr/>
            <p:nvPr/>
          </p:nvPicPr>
          <p:blipFill>
            <a:blip r:embed="rId3"/>
            <a:stretch/>
          </p:blipFill>
          <p:spPr>
            <a:xfrm>
              <a:off x="152280" y="5211720"/>
              <a:ext cx="111312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0" descr="logo"/>
            <p:cNvPicPr/>
            <p:nvPr/>
          </p:nvPicPr>
          <p:blipFill>
            <a:blip r:embed="rId4"/>
            <a:stretch/>
          </p:blipFill>
          <p:spPr>
            <a:xfrm>
              <a:off x="338040" y="5688000"/>
              <a:ext cx="743040" cy="4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Text Box 12"/>
          <p:cNvSpPr/>
          <p:nvPr/>
        </p:nvSpPr>
        <p:spPr>
          <a:xfrm>
            <a:off x="8750160" y="1406520"/>
            <a:ext cx="39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16"/>
          <p:cNvGrpSpPr/>
          <p:nvPr/>
        </p:nvGrpSpPr>
        <p:grpSpPr>
          <a:xfrm>
            <a:off x="2459160" y="1397160"/>
            <a:ext cx="7848360" cy="844200"/>
            <a:chOff x="2459160" y="1397160"/>
            <a:chExt cx="7848360" cy="844200"/>
          </a:xfrm>
        </p:grpSpPr>
        <p:sp>
          <p:nvSpPr>
            <p:cNvPr id="502" name="Text Box 23"/>
            <p:cNvSpPr/>
            <p:nvPr/>
          </p:nvSpPr>
          <p:spPr>
            <a:xfrm>
              <a:off x="2459160" y="1781640"/>
              <a:ext cx="78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c3ff"/>
                  </a:solidFill>
                  <a:latin typeface="Arial"/>
                  <a:ea typeface="ＭＳ Ｐゴシック"/>
                </a:rPr>
                <a:t>Sentence structur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3"/>
            <p:cNvSpPr/>
            <p:nvPr/>
          </p:nvSpPr>
          <p:spPr>
            <a:xfrm>
              <a:off x="2459160" y="1397160"/>
              <a:ext cx="78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c3ff"/>
                  </a:solidFill>
                  <a:latin typeface="Arial"/>
                  <a:ea typeface="ＭＳ Ｐゴシック"/>
                </a:rPr>
                <a:t>Part 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5317200" y="422100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Jean Schumaker &amp; Jan Sheld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6"/>
          <p:cNvGrpSpPr/>
          <p:nvPr/>
        </p:nvGrpSpPr>
        <p:grpSpPr>
          <a:xfrm>
            <a:off x="2452680" y="2521080"/>
            <a:ext cx="7848720" cy="1209960"/>
            <a:chOff x="2452680" y="2521080"/>
            <a:chExt cx="7848720" cy="1209960"/>
          </a:xfrm>
        </p:grpSpPr>
        <p:sp>
          <p:nvSpPr>
            <p:cNvPr id="506" name="Text Box 23"/>
            <p:cNvSpPr/>
            <p:nvPr/>
          </p:nvSpPr>
          <p:spPr>
            <a:xfrm>
              <a:off x="2452680" y="2905560"/>
              <a:ext cx="306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Sentence Writing Instructio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3"/>
            <p:cNvSpPr/>
            <p:nvPr/>
          </p:nvSpPr>
          <p:spPr>
            <a:xfrm>
              <a:off x="2452680" y="252108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Part 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22" descr="fund_sent_writing_student.jpg"/>
          <p:cNvPicPr/>
          <p:nvPr/>
        </p:nvPicPr>
        <p:blipFill>
          <a:blip r:embed="rId5"/>
          <a:stretch/>
        </p:blipFill>
        <p:spPr>
          <a:xfrm>
            <a:off x="5418000" y="0"/>
            <a:ext cx="4064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2"/>
          <p:cNvSpPr/>
          <p:nvPr/>
        </p:nvSpPr>
        <p:spPr>
          <a:xfrm>
            <a:off x="8750160" y="1406520"/>
            <a:ext cx="39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17200" y="422100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Jean Schumaker &amp; Jan Sheld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22320" y="1400040"/>
            <a:ext cx="525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S: After viewing this presentation, you should be able to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22320" y="2200320"/>
            <a:ext cx="562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Explain each of the four types of sentence structures and their associated formula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22320" y="3244680"/>
            <a:ext cx="562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ose sample sentences that correctly reflect each of the sentence formula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304920" y="201600"/>
            <a:ext cx="7848360" cy="905400"/>
            <a:chOff x="304920" y="201600"/>
            <a:chExt cx="7848360" cy="905400"/>
          </a:xfrm>
        </p:grpSpPr>
        <p:sp>
          <p:nvSpPr>
            <p:cNvPr id="515" name="Text Box 23"/>
            <p:cNvSpPr/>
            <p:nvPr/>
          </p:nvSpPr>
          <p:spPr>
            <a:xfrm>
              <a:off x="304920" y="58644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Sentence Writing Strategy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23"/>
            <p:cNvSpPr/>
            <p:nvPr/>
          </p:nvSpPr>
          <p:spPr>
            <a:xfrm>
              <a:off x="304920" y="201600"/>
              <a:ext cx="78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Fundamentals i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3" descr="fund_sent_writing_student.jpg"/>
          <p:cNvPicPr/>
          <p:nvPr/>
        </p:nvPicPr>
        <p:blipFill>
          <a:blip r:embed="rId1"/>
          <a:stretch/>
        </p:blipFill>
        <p:spPr>
          <a:xfrm>
            <a:off x="5418000" y="0"/>
            <a:ext cx="4064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3"/>
          <p:cNvGrpSpPr/>
          <p:nvPr/>
        </p:nvGrpSpPr>
        <p:grpSpPr>
          <a:xfrm>
            <a:off x="304920" y="201600"/>
            <a:ext cx="7848360" cy="905400"/>
            <a:chOff x="304920" y="201600"/>
            <a:chExt cx="7848360" cy="905400"/>
          </a:xfrm>
        </p:grpSpPr>
        <p:sp>
          <p:nvSpPr>
            <p:cNvPr id="519" name="Text Box 23"/>
            <p:cNvSpPr/>
            <p:nvPr/>
          </p:nvSpPr>
          <p:spPr>
            <a:xfrm>
              <a:off x="304920" y="58644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Sentence Writing Strategy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23"/>
            <p:cNvSpPr/>
            <p:nvPr/>
          </p:nvSpPr>
          <p:spPr>
            <a:xfrm>
              <a:off x="304920" y="201600"/>
              <a:ext cx="78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Fundamentals i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4" descr="fund_sent_writing_student.jpg"/>
          <p:cNvPicPr/>
          <p:nvPr/>
        </p:nvPicPr>
        <p:blipFill>
          <a:blip r:embed="rId1"/>
          <a:stretch/>
        </p:blipFill>
        <p:spPr>
          <a:xfrm>
            <a:off x="5418000" y="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522" name="TextBox 5"/>
          <p:cNvSpPr/>
          <p:nvPr/>
        </p:nvSpPr>
        <p:spPr>
          <a:xfrm>
            <a:off x="338040" y="1527120"/>
            <a:ext cx="53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AL SEQU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"/>
          <p:cNvSpPr/>
          <p:nvPr/>
        </p:nvSpPr>
        <p:spPr>
          <a:xfrm>
            <a:off x="411120" y="2195640"/>
            <a:ext cx="584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bility to compose basic sentences is gradually developed as students master a series of carefully scaffolded LEVELS of sentence writing sk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411120" y="5146560"/>
            <a:ext cx="862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STERY of each level is attained before proceeding to the next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s in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damentals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l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ositional 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punct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ec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ing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20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amentals Overhead #  </a:t>
            </a:r>
            <a:fld id="{1039774F-E11B-46BA-905F-8F882242A5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ffolded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 en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bui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79560"/>
            <a:ext cx="9144000" cy="113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ctional Sequ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ach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"/>
          <p:cNvSpPr/>
          <p:nvPr/>
        </p:nvSpPr>
        <p:spPr>
          <a:xfrm>
            <a:off x="5308560" y="565164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7"/>
          <p:cNvSpPr/>
          <p:nvPr/>
        </p:nvSpPr>
        <p:spPr>
          <a:xfrm flipV="1">
            <a:off x="5892840" y="4838760"/>
            <a:ext cx="0" cy="79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8"/>
          <p:cNvSpPr/>
          <p:nvPr/>
        </p:nvSpPr>
        <p:spPr>
          <a:xfrm flipH="1">
            <a:off x="4597560" y="48387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609480" y="781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(verbal practi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al practice (sometim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d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Start with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pital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d punct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. ? 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4025880" y="477504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11"/>
          <p:cNvGrpSpPr/>
          <p:nvPr/>
        </p:nvGrpSpPr>
        <p:grpSpPr>
          <a:xfrm>
            <a:off x="5969160" y="1361880"/>
            <a:ext cx="533160" cy="543240"/>
            <a:chOff x="5969160" y="1361880"/>
            <a:chExt cx="533160" cy="543240"/>
          </a:xfrm>
        </p:grpSpPr>
        <p:sp>
          <p:nvSpPr>
            <p:cNvPr id="540" name="Line 9"/>
            <p:cNvSpPr/>
            <p:nvPr/>
          </p:nvSpPr>
          <p:spPr>
            <a:xfrm flipV="1">
              <a:off x="6232320" y="1361880"/>
              <a:ext cx="0" cy="1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6010560" y="1460160"/>
              <a:ext cx="445680" cy="44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7"/>
            <p:cNvSpPr/>
            <p:nvPr/>
          </p:nvSpPr>
          <p:spPr>
            <a:xfrm>
              <a:off x="5969160" y="1630440"/>
              <a:ext cx="53316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6181920" y="1776240"/>
              <a:ext cx="102600" cy="128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2"/>
          <p:cNvGrpSpPr/>
          <p:nvPr/>
        </p:nvGrpSpPr>
        <p:grpSpPr>
          <a:xfrm>
            <a:off x="2793960" y="5387760"/>
            <a:ext cx="533520" cy="543240"/>
            <a:chOff x="2793960" y="5387760"/>
            <a:chExt cx="533520" cy="543240"/>
          </a:xfrm>
        </p:grpSpPr>
        <p:sp>
          <p:nvSpPr>
            <p:cNvPr id="545" name="Line 13"/>
            <p:cNvSpPr/>
            <p:nvPr/>
          </p:nvSpPr>
          <p:spPr>
            <a:xfrm flipV="1">
              <a:off x="3057480" y="5387760"/>
              <a:ext cx="0" cy="1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14"/>
            <p:cNvSpPr/>
            <p:nvPr/>
          </p:nvSpPr>
          <p:spPr>
            <a:xfrm>
              <a:off x="2835360" y="5486040"/>
              <a:ext cx="446040" cy="44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5"/>
            <p:cNvSpPr/>
            <p:nvPr/>
          </p:nvSpPr>
          <p:spPr>
            <a:xfrm>
              <a:off x="2793960" y="5656320"/>
              <a:ext cx="53352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6"/>
            <p:cNvSpPr/>
            <p:nvPr/>
          </p:nvSpPr>
          <p:spPr>
            <a:xfrm>
              <a:off x="3007080" y="5802120"/>
              <a:ext cx="102960" cy="128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Line 17"/>
          <p:cNvSpPr/>
          <p:nvPr/>
        </p:nvSpPr>
        <p:spPr>
          <a:xfrm>
            <a:off x="4127400" y="57405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3540960" y="543888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? 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, place, thing, quality, or idea t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en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nt for a walk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er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clos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llo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se into the sk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l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lled the stree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declared at midnigh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de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d that shows the action of the subject of th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 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nd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666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ertinent Setting Deman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91960" y="873000"/>
            <a:ext cx="88520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tudents must express themselves and demonstrate their knowledge in writing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ヒラギノ角ゴ Pro W3"/>
              </a:rPr>
              <a:t>in book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ヒラギノ角ゴ Pro W3"/>
              </a:rPr>
              <a:t>in themes/research pa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ヒラギノ角ゴ Pro W3"/>
              </a:rPr>
              <a:t>in answers to chapter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ヒラギノ角ゴ Pro W3"/>
              </a:rPr>
              <a:t>in answers on t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NS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k 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plore words to fit the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e th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ch and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&amp; Check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 ”Is there a verb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t out th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k, ”Who or What _____?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 in o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0" descr="1A,B ck punctuation.jpg"/>
          <p:cNvPicPr/>
          <p:nvPr/>
        </p:nvPicPr>
        <p:blipFill>
          <a:blip r:embed="rId1"/>
          <a:stretch/>
        </p:blipFill>
        <p:spPr>
          <a:xfrm>
            <a:off x="131760" y="74520"/>
            <a:ext cx="5226120" cy="676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0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vel 1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ing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nctu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3"/>
          <p:cNvGrpSpPr/>
          <p:nvPr/>
        </p:nvGrpSpPr>
        <p:grpSpPr>
          <a:xfrm>
            <a:off x="304920" y="201600"/>
            <a:ext cx="7848360" cy="662040"/>
            <a:chOff x="304920" y="201600"/>
            <a:chExt cx="7848360" cy="662040"/>
          </a:xfrm>
        </p:grpSpPr>
        <p:sp>
          <p:nvSpPr>
            <p:cNvPr id="562" name="Text Box 23"/>
            <p:cNvSpPr/>
            <p:nvPr/>
          </p:nvSpPr>
          <p:spPr>
            <a:xfrm>
              <a:off x="304920" y="586440"/>
              <a:ext cx="7848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23"/>
            <p:cNvSpPr/>
            <p:nvPr/>
          </p:nvSpPr>
          <p:spPr>
            <a:xfrm>
              <a:off x="304920" y="201600"/>
              <a:ext cx="784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Fundamentals in Sentence Writing Strategy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5"/>
          <p:cNvSpPr/>
          <p:nvPr/>
        </p:nvSpPr>
        <p:spPr>
          <a:xfrm>
            <a:off x="378000" y="574560"/>
            <a:ext cx="73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: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ecking for punctu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8" descr="1A,B ck punctuation.jpg"/>
          <p:cNvPicPr/>
          <p:nvPr/>
        </p:nvPicPr>
        <p:blipFill>
          <a:blip r:embed="rId1"/>
          <a:stretch/>
        </p:blipFill>
        <p:spPr>
          <a:xfrm>
            <a:off x="0" y="1870200"/>
            <a:ext cx="169848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6" name="Picture 6" descr="1C,D ck punctuation.jpg"/>
          <p:cNvPicPr/>
          <p:nvPr/>
        </p:nvPicPr>
        <p:blipFill>
          <a:blip r:embed="rId2"/>
          <a:stretch/>
        </p:blipFill>
        <p:spPr>
          <a:xfrm>
            <a:off x="1860480" y="1870200"/>
            <a:ext cx="1679760" cy="217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7" name="Picture 9" descr="1E,F ck punctuation.jpg"/>
          <p:cNvPicPr/>
          <p:nvPr/>
        </p:nvPicPr>
        <p:blipFill>
          <a:blip r:embed="rId3"/>
          <a:stretch/>
        </p:blipFill>
        <p:spPr>
          <a:xfrm>
            <a:off x="3701880" y="1870200"/>
            <a:ext cx="1675080" cy="21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Picture 10" descr="1E,F ck punctuation.jpg"/>
          <p:cNvPicPr/>
          <p:nvPr/>
        </p:nvPicPr>
        <p:blipFill>
          <a:blip r:embed="rId4"/>
          <a:stretch/>
        </p:blipFill>
        <p:spPr>
          <a:xfrm>
            <a:off x="5538960" y="1870200"/>
            <a:ext cx="1668240" cy="21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9" name="Picture 11" descr="1G,Hck punctuation.jpg"/>
          <p:cNvPicPr/>
          <p:nvPr/>
        </p:nvPicPr>
        <p:blipFill>
          <a:blip r:embed="rId5"/>
          <a:stretch/>
        </p:blipFill>
        <p:spPr>
          <a:xfrm>
            <a:off x="7369200" y="1809720"/>
            <a:ext cx="1719360" cy="22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0" name="Rectangle 13"/>
          <p:cNvSpPr/>
          <p:nvPr/>
        </p:nvSpPr>
        <p:spPr>
          <a:xfrm>
            <a:off x="20520" y="1566720"/>
            <a:ext cx="1746360" cy="1389240"/>
          </a:xfrm>
          <a:prstGeom prst="rect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4"/>
          <p:cNvSpPr/>
          <p:nvPr/>
        </p:nvSpPr>
        <p:spPr>
          <a:xfrm>
            <a:off x="1808280" y="1322280"/>
            <a:ext cx="73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arn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et 1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stery attain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5"/>
          <p:cNvSpPr/>
          <p:nvPr/>
        </p:nvSpPr>
        <p:spPr>
          <a:xfrm>
            <a:off x="1946160" y="2030400"/>
            <a:ext cx="5840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YES </a:t>
            </a:r>
            <a:r>
              <a:rPr b="1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move to Level 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6"/>
          <p:cNvSpPr/>
          <p:nvPr/>
        </p:nvSpPr>
        <p:spPr>
          <a:xfrm>
            <a:off x="1959120" y="2698920"/>
            <a:ext cx="69912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more practice of this skill needed, so practice using next  Learning Sheet on this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earning Sheet 1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7"/>
          <p:cNvSpPr/>
          <p:nvPr/>
        </p:nvSpPr>
        <p:spPr>
          <a:xfrm>
            <a:off x="0" y="2930400"/>
            <a:ext cx="1785960" cy="1136880"/>
          </a:xfrm>
          <a:prstGeom prst="rect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3"/>
          <p:cNvGrpSpPr/>
          <p:nvPr/>
        </p:nvGrpSpPr>
        <p:grpSpPr>
          <a:xfrm>
            <a:off x="304920" y="201600"/>
            <a:ext cx="7848360" cy="662040"/>
            <a:chOff x="304920" y="201600"/>
            <a:chExt cx="7848360" cy="662040"/>
          </a:xfrm>
        </p:grpSpPr>
        <p:sp>
          <p:nvSpPr>
            <p:cNvPr id="576" name="Text Box 23"/>
            <p:cNvSpPr/>
            <p:nvPr/>
          </p:nvSpPr>
          <p:spPr>
            <a:xfrm>
              <a:off x="304920" y="586440"/>
              <a:ext cx="7848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23"/>
            <p:cNvSpPr/>
            <p:nvPr/>
          </p:nvSpPr>
          <p:spPr>
            <a:xfrm>
              <a:off x="304920" y="201600"/>
              <a:ext cx="784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Fundamentals in Sentence Writing Strategy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Box 5"/>
          <p:cNvSpPr/>
          <p:nvPr/>
        </p:nvSpPr>
        <p:spPr>
          <a:xfrm>
            <a:off x="378000" y="574560"/>
            <a:ext cx="73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: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ecking for punctu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8" descr="1A,B ck punctuation.jpg"/>
          <p:cNvPicPr/>
          <p:nvPr/>
        </p:nvPicPr>
        <p:blipFill>
          <a:blip r:embed="rId1"/>
          <a:stretch/>
        </p:blipFill>
        <p:spPr>
          <a:xfrm>
            <a:off x="0" y="1870200"/>
            <a:ext cx="169848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0" name="Picture 6" descr="1C,D ck punctuation.jpg"/>
          <p:cNvPicPr/>
          <p:nvPr/>
        </p:nvPicPr>
        <p:blipFill>
          <a:blip r:embed="rId2"/>
          <a:stretch/>
        </p:blipFill>
        <p:spPr>
          <a:xfrm>
            <a:off x="1860480" y="1870200"/>
            <a:ext cx="1679760" cy="217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1" name="Picture 9" descr="1E,F ck punctuation.jpg"/>
          <p:cNvPicPr/>
          <p:nvPr/>
        </p:nvPicPr>
        <p:blipFill>
          <a:blip r:embed="rId3"/>
          <a:stretch/>
        </p:blipFill>
        <p:spPr>
          <a:xfrm>
            <a:off x="3701880" y="1870200"/>
            <a:ext cx="1675080" cy="21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2" name="Picture 10" descr="1E,F ck punctuation.jpg"/>
          <p:cNvPicPr/>
          <p:nvPr/>
        </p:nvPicPr>
        <p:blipFill>
          <a:blip r:embed="rId4"/>
          <a:stretch/>
        </p:blipFill>
        <p:spPr>
          <a:xfrm>
            <a:off x="5538960" y="1870200"/>
            <a:ext cx="1668240" cy="21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3" name="Picture 11" descr="1G,Hck punctuation.jpg"/>
          <p:cNvPicPr/>
          <p:nvPr/>
        </p:nvPicPr>
        <p:blipFill>
          <a:blip r:embed="rId5"/>
          <a:stretch/>
        </p:blipFill>
        <p:spPr>
          <a:xfrm>
            <a:off x="7369200" y="1809720"/>
            <a:ext cx="1719360" cy="22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4" name="Rectangle 13"/>
          <p:cNvSpPr/>
          <p:nvPr/>
        </p:nvSpPr>
        <p:spPr>
          <a:xfrm>
            <a:off x="20520" y="2897280"/>
            <a:ext cx="1785960" cy="1170000"/>
          </a:xfrm>
          <a:prstGeom prst="rect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4"/>
          <p:cNvSpPr/>
          <p:nvPr/>
        </p:nvSpPr>
        <p:spPr>
          <a:xfrm>
            <a:off x="1808280" y="1322280"/>
            <a:ext cx="73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arn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et 1B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stery attain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5"/>
          <p:cNvSpPr/>
          <p:nvPr/>
        </p:nvSpPr>
        <p:spPr>
          <a:xfrm>
            <a:off x="1131840" y="4390920"/>
            <a:ext cx="5840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YES </a:t>
            </a:r>
            <a:r>
              <a:rPr b="1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move to Level 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6"/>
          <p:cNvSpPr/>
          <p:nvPr/>
        </p:nvSpPr>
        <p:spPr>
          <a:xfrm>
            <a:off x="1146240" y="5059440"/>
            <a:ext cx="69912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more practice of this skill needed, so practice using next  Learning Sheet on this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earning Sheet 1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1846440" y="1917720"/>
            <a:ext cx="1685880" cy="1038240"/>
          </a:xfrm>
          <a:prstGeom prst="rect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Bent Arrow 4"/>
          <p:cNvSpPr/>
          <p:nvPr/>
        </p:nvSpPr>
        <p:spPr>
          <a:xfrm flipV="1" rot="5400000">
            <a:off x="793440" y="1884240"/>
            <a:ext cx="1309680" cy="655560"/>
          </a:xfrm>
          <a:custGeom>
            <a:avLst/>
            <a:gdLst/>
            <a:ahLst/>
            <a:rect l="l" t="t" r="r" b="b"/>
            <a:pathLst>
              <a:path w="1309687" h="655638">
                <a:moveTo>
                  <a:pt x="0" y="655638"/>
                </a:moveTo>
                <a:lnTo>
                  <a:pt x="0" y="368796"/>
                </a:lnTo>
                <a:cubicBezTo>
                  <a:pt x="0" y="210378"/>
                  <a:pt x="128424" y="81954"/>
                  <a:pt x="286842" y="81954"/>
                </a:cubicBezTo>
                <a:lnTo>
                  <a:pt x="1145778" y="81955"/>
                </a:lnTo>
                <a:lnTo>
                  <a:pt x="1145778" y="0"/>
                </a:lnTo>
                <a:lnTo>
                  <a:pt x="1309687" y="163910"/>
                </a:lnTo>
                <a:lnTo>
                  <a:pt x="1145778" y="327819"/>
                </a:lnTo>
                <a:lnTo>
                  <a:pt x="1145778" y="245864"/>
                </a:lnTo>
                <a:lnTo>
                  <a:pt x="286842" y="245864"/>
                </a:lnTo>
                <a:cubicBezTo>
                  <a:pt x="218949" y="245864"/>
                  <a:pt x="163910" y="300903"/>
                  <a:pt x="163910" y="368796"/>
                </a:cubicBezTo>
                <a:lnTo>
                  <a:pt x="163910" y="655638"/>
                </a:lnTo>
                <a:lnTo>
                  <a:pt x="0" y="65563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3"/>
          <p:cNvGrpSpPr/>
          <p:nvPr/>
        </p:nvGrpSpPr>
        <p:grpSpPr>
          <a:xfrm>
            <a:off x="304920" y="201600"/>
            <a:ext cx="7848360" cy="662040"/>
            <a:chOff x="304920" y="201600"/>
            <a:chExt cx="7848360" cy="662040"/>
          </a:xfrm>
        </p:grpSpPr>
        <p:sp>
          <p:nvSpPr>
            <p:cNvPr id="591" name="Text Box 23"/>
            <p:cNvSpPr/>
            <p:nvPr/>
          </p:nvSpPr>
          <p:spPr>
            <a:xfrm>
              <a:off x="304920" y="586440"/>
              <a:ext cx="7848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23"/>
            <p:cNvSpPr/>
            <p:nvPr/>
          </p:nvSpPr>
          <p:spPr>
            <a:xfrm>
              <a:off x="304920" y="201600"/>
              <a:ext cx="784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Fundamentals in Sentence Writing Strategy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5"/>
          <p:cNvSpPr/>
          <p:nvPr/>
        </p:nvSpPr>
        <p:spPr>
          <a:xfrm>
            <a:off x="378000" y="574560"/>
            <a:ext cx="73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: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ecking for punctu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8" descr="1A,B ck punctuation.jpg"/>
          <p:cNvPicPr/>
          <p:nvPr/>
        </p:nvPicPr>
        <p:blipFill>
          <a:blip r:embed="rId1"/>
          <a:stretch/>
        </p:blipFill>
        <p:spPr>
          <a:xfrm>
            <a:off x="0" y="1870200"/>
            <a:ext cx="169848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5" name="Picture 6" descr="1C,D ck punctuation.jpg"/>
          <p:cNvPicPr/>
          <p:nvPr/>
        </p:nvPicPr>
        <p:blipFill>
          <a:blip r:embed="rId2"/>
          <a:stretch/>
        </p:blipFill>
        <p:spPr>
          <a:xfrm>
            <a:off x="1860480" y="1870200"/>
            <a:ext cx="1679760" cy="217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6" name="Picture 9" descr="1E,F ck punctuation.jpg"/>
          <p:cNvPicPr/>
          <p:nvPr/>
        </p:nvPicPr>
        <p:blipFill>
          <a:blip r:embed="rId3"/>
          <a:stretch/>
        </p:blipFill>
        <p:spPr>
          <a:xfrm>
            <a:off x="3701880" y="1870200"/>
            <a:ext cx="1675080" cy="21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7" name="Picture 10" descr="1E,F ck punctuation.jpg"/>
          <p:cNvPicPr/>
          <p:nvPr/>
        </p:nvPicPr>
        <p:blipFill>
          <a:blip r:embed="rId4"/>
          <a:stretch/>
        </p:blipFill>
        <p:spPr>
          <a:xfrm>
            <a:off x="5538960" y="1870200"/>
            <a:ext cx="1668240" cy="21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8" name="Picture 11" descr="1G,Hck punctuation.jpg"/>
          <p:cNvPicPr/>
          <p:nvPr/>
        </p:nvPicPr>
        <p:blipFill>
          <a:blip r:embed="rId5"/>
          <a:stretch/>
        </p:blipFill>
        <p:spPr>
          <a:xfrm>
            <a:off x="7369200" y="1809720"/>
            <a:ext cx="1719360" cy="22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9" name="Rectangle 13"/>
          <p:cNvSpPr/>
          <p:nvPr/>
        </p:nvSpPr>
        <p:spPr>
          <a:xfrm>
            <a:off x="1846440" y="1785960"/>
            <a:ext cx="1746000" cy="1190520"/>
          </a:xfrm>
          <a:prstGeom prst="rect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4"/>
          <p:cNvSpPr/>
          <p:nvPr/>
        </p:nvSpPr>
        <p:spPr>
          <a:xfrm>
            <a:off x="1808280" y="1322280"/>
            <a:ext cx="73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arn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et 1C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stery attain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5"/>
          <p:cNvSpPr/>
          <p:nvPr/>
        </p:nvSpPr>
        <p:spPr>
          <a:xfrm>
            <a:off x="1131840" y="4390920"/>
            <a:ext cx="5840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YES </a:t>
            </a:r>
            <a:r>
              <a:rPr b="1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move to Level 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6"/>
          <p:cNvSpPr/>
          <p:nvPr/>
        </p:nvSpPr>
        <p:spPr>
          <a:xfrm>
            <a:off x="1146240" y="5059440"/>
            <a:ext cx="69912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more practice of this skill needed, so practice using next  Learning Sheet on this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earning Sheet 1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7"/>
          <p:cNvSpPr/>
          <p:nvPr/>
        </p:nvSpPr>
        <p:spPr>
          <a:xfrm>
            <a:off x="1886040" y="3009960"/>
            <a:ext cx="1685880" cy="1038240"/>
          </a:xfrm>
          <a:prstGeom prst="rect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ord that show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ction or state-of-be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su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2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action verbs &amp; su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2A,B ID Action verbs &amp; Subjects.jpg"/>
          <p:cNvPicPr/>
          <p:nvPr/>
        </p:nvPicPr>
        <p:blipFill>
          <a:blip r:embed="rId1"/>
          <a:stretch/>
        </p:blipFill>
        <p:spPr>
          <a:xfrm>
            <a:off x="55440" y="0"/>
            <a:ext cx="5302440" cy="686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11"/>
          <p:cNvSpPr/>
          <p:nvPr/>
        </p:nvSpPr>
        <p:spPr>
          <a:xfrm>
            <a:off x="5462640" y="79200"/>
            <a:ext cx="36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3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riting simple sentences with action ver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3A,B Writing Simple sen.Action verbs.jpg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ing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that link the subject to another word that describes th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09480" y="533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Sentence Writing Strate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84360" y="1325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strategy focuses on teaching students about four types of senten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387440" y="2360520"/>
            <a:ext cx="74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d their internal structur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836640" y="3144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370160" y="3195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te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370160" y="3886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tenc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370160" y="4578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tenc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370160" y="5270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/ comple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te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-3076560" y="27576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4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linking verbs &amp; su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3"/>
          <p:cNvSpPr/>
          <p:nvPr/>
        </p:nvSpPr>
        <p:spPr>
          <a:xfrm>
            <a:off x="6608880" y="4305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" descr="4A,B  ID Linking verbs.subjects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5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linking verbs &amp; su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3"/>
          <p:cNvSpPr/>
          <p:nvPr/>
        </p:nvSpPr>
        <p:spPr>
          <a:xfrm>
            <a:off x="6608880" y="4305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5A,B Writing Simple sen.linking verbs.pdf"/>
          <p:cNvPicPr/>
          <p:nvPr/>
        </p:nvPicPr>
        <p:blipFill>
          <a:blip r:embed="rId1"/>
          <a:stretch/>
        </p:blipFill>
        <p:spPr>
          <a:xfrm>
            <a:off x="1260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&amp; Check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144440"/>
            <a:ext cx="86868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 out im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ositional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 “Is there a verb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t out th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“Who or What _____?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 in o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20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amentals Overhead #  </a:t>
            </a:r>
            <a:fld id="{E782B796-8660-40FF-B016-6EE181E591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3" descr="_x0007_bee.jpg                                                        00027216_x000c_Macintosh HD                   ABA78158:"/>
          <p:cNvPicPr/>
          <p:nvPr/>
        </p:nvPicPr>
        <p:blipFill>
          <a:blip r:embed="rId1"/>
          <a:stretch/>
        </p:blipFill>
        <p:spPr>
          <a:xfrm>
            <a:off x="2155680" y="328680"/>
            <a:ext cx="48387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11"/>
          <p:cNvSpPr/>
          <p:nvPr/>
        </p:nvSpPr>
        <p:spPr>
          <a:xfrm>
            <a:off x="5462640" y="79200"/>
            <a:ext cx="36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6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infinitives, verbs &amp; su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3"/>
          <p:cNvSpPr/>
          <p:nvPr/>
        </p:nvSpPr>
        <p:spPr>
          <a:xfrm>
            <a:off x="6608880" y="4305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" descr="6A,B ID Infinitives.Verbs.Subjects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11"/>
          <p:cNvSpPr/>
          <p:nvPr/>
        </p:nvSpPr>
        <p:spPr>
          <a:xfrm>
            <a:off x="5462640" y="79200"/>
            <a:ext cx="36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7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riting simple sentences with infini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3"/>
          <p:cNvSpPr/>
          <p:nvPr/>
        </p:nvSpPr>
        <p:spPr>
          <a:xfrm>
            <a:off x="6608880" y="4305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2" descr="7A,B Writing Sim Sen.Infinitives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1091520" y="681120"/>
            <a:ext cx="6956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ain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oug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ough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w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ne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t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h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e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yo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side of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273840" y="-1260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os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11"/>
          <p:cNvSpPr/>
          <p:nvPr/>
        </p:nvSpPr>
        <p:spPr>
          <a:xfrm>
            <a:off x="5462640" y="79200"/>
            <a:ext cx="368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8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prepositional phrases, verbs, &amp; su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" descr="8A,B ID Prep.phrases, V&amp;S.pdf"/>
          <p:cNvPicPr/>
          <p:nvPr/>
        </p:nvPicPr>
        <p:blipFill>
          <a:blip r:embed="rId1"/>
          <a:stretch/>
        </p:blipFill>
        <p:spPr>
          <a:xfrm>
            <a:off x="31680" y="0"/>
            <a:ext cx="53006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Box 11"/>
          <p:cNvSpPr/>
          <p:nvPr/>
        </p:nvSpPr>
        <p:spPr>
          <a:xfrm>
            <a:off x="5462640" y="79200"/>
            <a:ext cx="36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9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riting simple sentences with prepos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9A,B Writing Sim Sen. prepositions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11"/>
          <p:cNvSpPr/>
          <p:nvPr/>
        </p:nvSpPr>
        <p:spPr>
          <a:xfrm>
            <a:off x="5462640" y="79200"/>
            <a:ext cx="368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0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criminating infinitives from prepositional phr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1" descr="10A,B Discriim Prep v. Infinitives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this Instructional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52440" y="1219320"/>
            <a:ext cx="8791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o teach students to write a variety of complete simple sentences with fluenc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11"/>
          <p:cNvSpPr/>
          <p:nvPr/>
        </p:nvSpPr>
        <p:spPr>
          <a:xfrm>
            <a:off x="5462640" y="79200"/>
            <a:ext cx="368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1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prepositional phrases, infinitives, verbs, &amp; su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11A, B ID Prep.Infinitives.S&amp;V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2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rking SSV sent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" descr="12A,B Marking SSV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3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riting SSV sent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" descr="13A,B Writing SSV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4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rking SVV sent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1" descr="14A,B Marking SSV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5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riting SVV sent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15A,B Writing SVV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6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riting SV, SSV, &amp; SVV sent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" descr="16A Writing SV.SVV.SSv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7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rk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SVV sent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17A,B Marking SSVV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8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rit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SVV sent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" descr="18A Writing SSVV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Box 11"/>
          <p:cNvSpPr/>
          <p:nvPr/>
        </p:nvSpPr>
        <p:spPr>
          <a:xfrm>
            <a:off x="5462640" y="79200"/>
            <a:ext cx="36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9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riting SV, SSV, SVV, &amp; SSVV sent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19A Marking SV.SVV.SSV.SSVV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ne wor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best t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he sent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ab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of the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371600" y="1295280"/>
            <a:ext cx="7620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 students to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se formulas to form the sentences they wr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cide on the appropriate wording of a sentence before they write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rite the sentence using appropriate capitalization at the beginning and punctuation throughout and at the e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eck their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20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Main Su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1" descr="20A ID Main Subjects.pdf"/>
          <p:cNvPicPr/>
          <p:nvPr/>
        </p:nvPicPr>
        <p:blipFill>
          <a:blip r:embed="rId1"/>
          <a:stretch/>
        </p:blipFill>
        <p:spPr>
          <a:xfrm>
            <a:off x="1260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21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Verbs &amp; Main Su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" descr="21A ID V.phases&amp; Main Subjects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22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riting sentences with ad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" descr="22A Writing Sen wAdjectives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1"/>
          <p:cNvSpPr/>
          <p:nvPr/>
        </p:nvSpPr>
        <p:spPr>
          <a:xfrm>
            <a:off x="5462640" y="79200"/>
            <a:ext cx="36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23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Verb Phrases and Main Su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23A ID V.phases&amp; Main Subjects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20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amentals Overhead #  </a:t>
            </a:r>
            <a:fld id="{01C0EE52-A84F-4B38-9A6C-0D8B479610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ord tha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s a no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20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amentals Overhead #  </a:t>
            </a:r>
            <a:fld id="{619EB6CB-9128-4C3A-A1B4-4A64BEDDC4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ds that hel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in ve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 the a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20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amentals Overhead #  </a:t>
            </a:r>
            <a:fld id="{6451F14B-ACDA-4DD3-8651-5E063AF23B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"/>
          <p:cNvSpPr/>
          <p:nvPr/>
        </p:nvSpPr>
        <p:spPr>
          <a:xfrm>
            <a:off x="2311200" y="5692680"/>
            <a:ext cx="45151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3063960" y="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6129720" y="153360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2248920" y="1636560"/>
            <a:ext cx="7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6074280" y="2798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2273400" y="2638440"/>
            <a:ext cx="6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1"/>
          <p:cNvSpPr/>
          <p:nvPr/>
        </p:nvSpPr>
        <p:spPr>
          <a:xfrm>
            <a:off x="2273400" y="4005360"/>
            <a:ext cx="6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2"/>
          <p:cNvSpPr/>
          <p:nvPr/>
        </p:nvSpPr>
        <p:spPr>
          <a:xfrm>
            <a:off x="6110640" y="4680000"/>
            <a:ext cx="7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15"/>
          <p:cNvGrpSpPr/>
          <p:nvPr/>
        </p:nvGrpSpPr>
        <p:grpSpPr>
          <a:xfrm>
            <a:off x="2160720" y="554040"/>
            <a:ext cx="903240" cy="903240"/>
            <a:chOff x="2160720" y="554040"/>
            <a:chExt cx="903240" cy="903240"/>
          </a:xfrm>
        </p:grpSpPr>
        <p:sp>
          <p:nvSpPr>
            <p:cNvPr id="684" name="Rectangle 4"/>
            <p:cNvSpPr/>
            <p:nvPr/>
          </p:nvSpPr>
          <p:spPr>
            <a:xfrm>
              <a:off x="2356560" y="593640"/>
              <a:ext cx="5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13"/>
            <p:cNvSpPr/>
            <p:nvPr/>
          </p:nvSpPr>
          <p:spPr>
            <a:xfrm>
              <a:off x="2160720" y="554040"/>
              <a:ext cx="903240" cy="90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19"/>
          <p:cNvGrpSpPr/>
          <p:nvPr/>
        </p:nvGrpSpPr>
        <p:grpSpPr>
          <a:xfrm>
            <a:off x="6048360" y="3724200"/>
            <a:ext cx="903240" cy="903240"/>
            <a:chOff x="6048360" y="3724200"/>
            <a:chExt cx="903240" cy="903240"/>
          </a:xfrm>
        </p:grpSpPr>
        <p:sp>
          <p:nvSpPr>
            <p:cNvPr id="687" name="Rectangle 10"/>
            <p:cNvSpPr/>
            <p:nvPr/>
          </p:nvSpPr>
          <p:spPr>
            <a:xfrm>
              <a:off x="6164280" y="374004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14"/>
            <p:cNvSpPr/>
            <p:nvPr/>
          </p:nvSpPr>
          <p:spPr>
            <a:xfrm>
              <a:off x="6048360" y="3724200"/>
              <a:ext cx="903240" cy="90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17"/>
          <p:cNvGrpSpPr/>
          <p:nvPr/>
        </p:nvGrpSpPr>
        <p:grpSpPr>
          <a:xfrm>
            <a:off x="6046920" y="554040"/>
            <a:ext cx="903240" cy="903240"/>
            <a:chOff x="6046920" y="554040"/>
            <a:chExt cx="903240" cy="903240"/>
          </a:xfrm>
        </p:grpSpPr>
        <p:sp>
          <p:nvSpPr>
            <p:cNvPr id="690" name="Rectangle 5"/>
            <p:cNvSpPr/>
            <p:nvPr/>
          </p:nvSpPr>
          <p:spPr>
            <a:xfrm>
              <a:off x="6325560" y="77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6"/>
            <p:cNvSpPr/>
            <p:nvPr/>
          </p:nvSpPr>
          <p:spPr>
            <a:xfrm>
              <a:off x="6046920" y="554040"/>
              <a:ext cx="903240" cy="90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Box 11"/>
          <p:cNvSpPr/>
          <p:nvPr/>
        </p:nvSpPr>
        <p:spPr>
          <a:xfrm>
            <a:off x="5462640" y="79200"/>
            <a:ext cx="36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24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riting sentences with helping verbs and ad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1" descr="24A Writing Sen w:helpingverbs.adjectives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Box 11"/>
          <p:cNvSpPr/>
          <p:nvPr/>
        </p:nvSpPr>
        <p:spPr>
          <a:xfrm>
            <a:off x="5462640" y="7920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25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ree writing pract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3" descr="25A Free writing practice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Foot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20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amentals Overhead #  </a:t>
            </a:r>
            <a:fld id="{1B4EAC62-C1E7-4A4F-AEF2-EB98B56BC7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that add information about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ubject of th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(how often, how much) the action takes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20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amentals Overhead #  </a:t>
            </a:r>
            <a:fld id="{9CFD519E-5DF8-48A8-8492-A2EF7BFEC1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often do not know how to structure their sentences. The formulas give them th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often do not know how to approach a writing task.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ce Writing Strate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them a simple, 4-step approach to a writing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is often a difficult task for students.  Students who learn this strategy learn through structured practice to write fluently and to get pleasure from writing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es Beh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ntence Writ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14400" y="195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531800" y="530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1"/>
          <p:cNvSpPr/>
          <p:nvPr/>
        </p:nvSpPr>
        <p:spPr>
          <a:xfrm>
            <a:off x="5462640" y="7920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26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adver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1" descr="26A ID adverbs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11"/>
          <p:cNvSpPr/>
          <p:nvPr/>
        </p:nvSpPr>
        <p:spPr>
          <a:xfrm>
            <a:off x="5462640" y="79200"/>
            <a:ext cx="36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27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riting sentences with adver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2" descr="27A Writing sen w:adverbs.pdf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amentals Overhead #  </a:t>
            </a:r>
            <a:fld id="{55BBBB27-D580-45E4-9016-E0F37B6ED8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ence Writing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8"/>
          <p:cNvGrpSpPr/>
          <p:nvPr/>
        </p:nvGrpSpPr>
        <p:grpSpPr>
          <a:xfrm>
            <a:off x="1066680" y="1676520"/>
            <a:ext cx="6904080" cy="4057560"/>
            <a:chOff x="1066680" y="1676520"/>
            <a:chExt cx="6904080" cy="4057560"/>
          </a:xfrm>
        </p:grpSpPr>
        <p:sp>
          <p:nvSpPr>
            <p:cNvPr id="107" name="Rectangle 8"/>
            <p:cNvSpPr/>
            <p:nvPr/>
          </p:nvSpPr>
          <p:spPr>
            <a:xfrm>
              <a:off x="4183200" y="1676520"/>
              <a:ext cx="134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centag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le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enc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1301760" y="3132360"/>
              <a:ext cx="24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tes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4185000" y="316548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 18%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066680" y="4006800"/>
              <a:ext cx="272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ular classroom products after Generalization Stag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181760" y="46166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98%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 58%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3836880" y="2833920"/>
              <a:ext cx="4133880" cy="2900160"/>
              <a:chOff x="3836880" y="2833920"/>
              <a:chExt cx="4133880" cy="2900160"/>
            </a:xfrm>
          </p:grpSpPr>
          <p:sp>
            <p:nvSpPr>
              <p:cNvPr id="113" name="Rectangle 14"/>
              <p:cNvSpPr/>
              <p:nvPr/>
            </p:nvSpPr>
            <p:spPr>
              <a:xfrm>
                <a:off x="3836880" y="2833920"/>
                <a:ext cx="4133880" cy="2900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5"/>
              <p:cNvSpPr/>
              <p:nvPr/>
            </p:nvSpPr>
            <p:spPr>
              <a:xfrm>
                <a:off x="5903640" y="2833920"/>
                <a:ext cx="0" cy="29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6"/>
              <p:cNvSpPr/>
              <p:nvPr/>
            </p:nvSpPr>
            <p:spPr>
              <a:xfrm>
                <a:off x="3836880" y="4283280"/>
                <a:ext cx="413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Rectangle 17"/>
            <p:cNvSpPr/>
            <p:nvPr/>
          </p:nvSpPr>
          <p:spPr>
            <a:xfrm>
              <a:off x="6214320" y="1676520"/>
              <a:ext cx="144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centag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licate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tenc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02:22Z</dcterms:created>
  <dc:creator>IBM Thinkpad</dc:creator>
  <dc:description/>
  <dc:language>en-US</dc:language>
  <cp:lastModifiedBy>Ellis, Edwin</cp:lastModifiedBy>
  <cp:lastPrinted>2018-07-30T14:59:52Z</cp:lastPrinted>
  <dcterms:modified xsi:type="dcterms:W3CDTF">2018-09-08T12:03:33Z</dcterms:modified>
  <cp:revision>81</cp:revision>
  <dc:subject/>
  <dc:title>Slide 1</dc:title>
</cp:coreProperties>
</file>